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3.png" ContentType="image/png"/>
  <Override PartName="/ppt/media/image12.png" ContentType="image/png"/>
  <Override PartName="/ppt/media/image35.wmf" ContentType="image/x-wmf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36.png" ContentType="image/png"/>
  <Override PartName="/ppt/media/image6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10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ftr" idx="10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 type="sldNum" idx="10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0001-7BFB-4DED-A72B-BC12A16E6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785E-F35A-48CC-8B19-FFF0F581B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6F25-398B-4D3B-879A-45ECDF209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885-8D3E-49E0-A90A-BA2740E14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9E01-577C-4C3B-8DCF-995BBF68172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AEA-8C01-44ED-BB48-B7C39CE5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5BD-B557-4BEE-8E12-9039BCA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ED5B9C-36BA-45EB-A333-40BC22C8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B66-4C7B-4112-853A-C7D07AE1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17F641-4D42-448D-B21A-D9063D67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6C893A-7747-4D49-897E-B49EE464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A20AED-5AF1-44E6-87CE-A68B8B75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0EF5BB-320E-42DB-9690-55D0A1AA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5CFD95-1448-47C4-B4E6-01EFE1DB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28AA24-13FA-4302-9B70-99F909C5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C14989-100F-489C-ACCF-8C8D2527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B86C9E-6284-4C58-B977-CC6AA3D1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C59C39-91AC-4EEE-8CB8-88ADBAA8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142D3F-63F2-4062-98B6-F90143BE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676-8AD7-47C7-94F3-3D1C5807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EA76D7-277B-46CB-AF86-B13F58EA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D102D-0C2C-4D82-9508-CDA51CE8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29E69-1399-4177-84C0-369AB9C9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A4CC4-182A-44D4-BD2F-E749BEAA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74038-E285-4166-9D2D-0697A248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5E2CB-360C-458B-820A-67895EA7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3CD8E-ADB4-4883-BD83-2FA86EC4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57F9F-049A-4B75-9F76-A85C95DA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8479A-F7D7-4421-BDA9-FB8F764B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A600F-BC0B-4B11-8612-284565D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B304-168E-4326-BA8F-A1012498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E09D9-BFE4-49CD-B685-B48032E8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B27D3-A23F-4CBB-91E0-502102CD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AE811-6142-4EF9-B5A5-5FE85758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A2035-F0C0-4411-980F-A5633836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269FA-0181-42F4-B00D-5E07D480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8B5B3-702B-48BB-A7E7-171F9F29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F9469-4554-4B01-A06A-0807477B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8A23E-9BF5-4A7A-BEAC-E7550018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FC3A4-8E7E-4071-A1E9-6CB84748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091C4-D412-4786-A0E0-0D946279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7DBF-1E3A-4BFE-BBA3-C685C1F8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C5B46-9883-4B12-AD91-B066A24B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E73CE-EC40-41E0-9E1A-5CAB8E48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E5E12-77D0-47C3-AE0B-EF121772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5E0BA-8D2F-4C7F-9F0B-1CC50550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0FF8B-8381-4B3F-86B1-10CF0419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7CDA4F-33CE-4FEB-BF89-049F48C3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2296A1-AD70-4C61-B7B7-D7E40A23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AEE245-47EE-465E-ADC2-638F3D33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8FDF4E-A1DF-4583-BEEA-D6D2FBDB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FDBA6F-A659-46D4-AEBC-4D3457B4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D483-3997-49D6-8744-44CAC1F0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E43A2E-421A-4296-BFBB-1EBDDFBD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1EC911-600C-4B28-829E-84583EC3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20F5F9-021F-4AFD-BCCD-8981155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5643F1-ED52-42FC-9240-859F1F1F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5CBAE3-0DF7-4541-B5E5-D6102319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D3002E-73DC-453E-B500-FD40E0DD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FFCEC0-94DA-426E-AC05-37009878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3849-9842-4249-9BA9-D963BA45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ABCB-6260-4C52-9E2A-830A0A4C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5149-B9FD-4571-BFB9-CC50C7C3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7C88F-F5BC-45B2-898C-0E22B527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6C38A-E9FA-42F9-88EF-EA42493D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3B26C-F4ED-4DC0-A1AC-DA698CA5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9183E-E48A-4A32-8E23-22F20941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97751-FE9D-4D6A-A4C6-D38FA941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8ADA5-FFA3-4DFB-9F03-4E2BA867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F8910-694E-4A14-A654-D580F36F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21094-6871-4F54-B86A-BD5AB3F7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C4747-2761-47FA-8166-D19E8D07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69A2-397B-4459-AEA6-0779344A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494E9-4722-4A58-9CB9-5483B9C7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0415B-658D-46F6-A0B6-A2147F82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9A8D0-7729-48DC-89A0-C45502F7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E6E38-CD4B-47B2-B6D1-098C0918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89BAD-2D6C-4402-8B9A-52E778E6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137BA-26F3-48E8-A945-14D6ACD5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37506-F527-4D3F-87BC-E54D17FC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D8955-DD58-4295-AB5E-6C2D2432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12DB9-1B5C-49C9-9E7E-20E14B5A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ACB7E-8094-4626-B19D-D8C04E8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343-F8AF-4B02-B46A-20D03675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165E-5946-4800-A961-D66544D7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478E3-3CC9-405F-AC19-34C47BDF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59B49-F6CA-4973-AD7B-A877FF53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34F18-0059-40E5-8D29-2BEB16E7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D6E01-AC16-44AC-B06B-71FFEDF3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48842-8C5B-44DF-9E76-D8E11FB4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D67A5-4CCE-47B1-8A7E-9A4DB27C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61512-1F48-4C1B-A80C-2BDADA1F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CE324-1FBE-43B1-AF74-8912918E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95628-F790-4D21-860D-4BFCCCC5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8D3B1-A60D-4F83-9D6A-9816682B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1DF3-DC5C-4856-9132-201369A1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826D7-82B6-4EE2-BB81-31058921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8EBA9-7382-43BD-9C8A-083905DA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6A0AF-14CB-4C7B-9321-1FC29BF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B2CFD-0FD7-4E8D-B0BB-EA20C9F1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A1941-ABF7-4F12-B608-238E9AEF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CD524-732B-4222-BF9A-2CE415EE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18BFB-B08A-40FF-803A-5ED76BF3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3901C-02BA-44EF-8BF8-65AC705F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C7E40-C53D-481F-A10A-85AA1B97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9D0DC-0EF5-413B-93F0-0F8803F3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BAE6-EEFB-4CD5-9C6D-93093240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1CF843-97C0-4419-AE90-35C66195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D08A0-77AC-4515-9483-33AC9CE9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4390F-2DCA-4CC4-97BA-7E7D5850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45799-D354-4C45-9930-AD4005B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7B679-6008-42BA-94BA-CCD93E80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C5B11-7504-47FF-BB7A-80308196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25AA9-CB8C-4564-A482-7A56B7BF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1997E-46D1-4F8F-921D-CE32F768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B9DDE-BA68-47BB-8A96-5C7B383F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32F23-E764-4CE2-A973-03CC3E69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2553-EB41-45F1-A56B-735DA411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B3000-2A16-42C2-B274-964FA473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8DE45F-8CD7-4842-B28E-74E4A9AC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F8096-4EE6-44BD-AFC4-BEDE8B17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91706F-A63B-4BE3-9C9D-901CBD1D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98E91-CBBC-40C0-8E8A-55E84C5B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4A5C8-9B17-4BB0-AE5B-67538259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32663-EAA2-4921-8FDD-01410178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7A9E3-2651-4CDD-96DB-401B419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D6BF7-AA96-488C-8A50-744A306D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4A18FA-97D6-4045-A4B4-BC5CD99D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F0FC-F942-45D0-AA41-26F4177F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74B96-723E-407C-89F8-6CF50302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24EE75-4477-4C2B-B989-5E41B7B8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D53B9-2327-4F84-8F25-7F241CBE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22182-D38B-44E1-A754-FF674788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25A6F-C10C-4DBF-BD1C-B55D5FB0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47887-F801-4409-89D6-5ECCAD9E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CF479B-5A93-4931-AEEA-2A1EBA7A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AED4E-F75B-4CFC-B9D1-C7305E70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0908A2-9762-498E-AA3F-B9ECF35A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29A25D-1AD4-4194-BC75-03242AB4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EF05-5BAD-4BE6-AEA9-F68535C7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A6FBD0-560A-4053-88FF-3A2804AB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3830EA-78DF-4D69-9439-4A58C0AE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9664E2-B5CC-40E4-8610-B364E97B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9F787-F924-4793-9FB4-C60029F7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A50E2-B6D6-42AA-9741-B9F3C55D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352064-533E-4903-A18C-396AB77E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12B4EA-0D7E-49FE-97CA-069FF4CB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12032-35DA-4062-A6DB-66224A0F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5E1662-78D7-4740-980D-8F1374F4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A888F-62CA-4189-B29C-A6024DDF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79FD-AB27-4391-8A26-7EA9023C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9398A8-7941-482D-935B-AE4BBDB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098FA-E0F9-4E85-A631-ECAEEC5F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101C1D-4C66-432C-B22C-05286E39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B9174-3FB4-46BC-A475-9E5EA044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FCA94-2256-4A1A-B24F-3DBF3EA1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BC8C15-51E8-438D-8DFD-EB41EE36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E926E-4E1D-4B2A-B540-FCED4967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33E865-AEEA-46B5-A01C-F8654074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D4504-BC24-48AE-97DE-65C61E23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53DDEB-65F3-49CF-A938-FD027D2F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42119-B4CC-4E18-BB6C-20A8D601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187437-8097-41E6-A0D0-37EC57AE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74AB77-75ED-4CCC-A4C0-30F17AF5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DA225-8C0E-4AB7-820D-4E8C7AA8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70E2D-8F1B-42AE-87A1-B962A441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8B915-AEE8-4CB6-9C68-4ECE1FA3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FC0C3E-A700-4091-AF1A-D6B67DDD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C163D-5E82-4AB2-BF91-7D67EDE2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439E15-05E2-4B08-A2AD-32A67DEC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F0FD3B-5A75-487D-B152-313F6E33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24344-8843-4C53-92DE-94119627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DEDD-02CE-4F8B-AAD2-2E726E42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05FD98-D4E0-4C78-91B0-C5C61B84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A352D8-341D-4555-9C94-40DF7552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AC8968-3BEB-470D-B610-5903DEF5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727C65-2294-44A2-8E57-9EFBAE6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419B6-B775-4016-9EBC-1CD322B3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CF45C-3ED0-42EC-83AE-100C8921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592DEE-32CB-4FB1-ADEC-CA3A1CC9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9E5F7F-E857-4470-92B9-A22B6866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150D9-A31C-478B-90A1-B72F0CAF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9B1BE-79D1-4387-B13C-AABA8DA6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F9B0-8242-4032-87C0-0B9BC707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DE9D4-2B6D-41E2-8999-791B9A98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721283-E835-4635-A82D-A73E3E34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4C53DE-4928-4BCC-B19A-EE23F535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12D3A-C7CC-4CA7-BAA1-8B6B8EEF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56DF66-7B6F-403D-9337-7FB26A72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7EF019-7043-442B-841E-03608D3D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8A5D7-4CB5-4581-B187-38FBBC30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B7BDC5-5E52-4CDE-B49E-8325075B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CA8C2-FC8E-46D4-B00A-B502171E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5081C7-F72B-4DF0-B4B9-A3AF769A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B54-8B01-438D-BC93-A5D33320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9A8F-8AF9-45AC-9468-9F448E00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B23FCC-11AE-4741-B0BD-17DDC00A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4EB666-72B3-46C5-B1F7-7F91368B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7BBC13-6103-44DE-9A0F-2F3EC903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BA4C81-E163-40BD-9CC7-B0EE4426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47A638-146D-4BAF-8840-A43B9F21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68E59E-C007-4CD6-ADDB-8F5D52FE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343304-0563-478E-BA8E-5507E32B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35415A-F77B-4C69-9AE4-C410E585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3F944A-0342-4F22-9996-25207F1F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EFA3E4-DD06-4A90-8744-4BB9D5B4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148CE-141F-441A-ACAD-04D1C574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7A42FC-61FC-4ACA-B2A5-E43FF40A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E86C2F-8994-449B-926B-29A50BE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4FAD30-3AE6-454A-AB4C-3FF73716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5937B9-1E2D-4BF1-8FB1-163290DD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CFA195-1FE8-4282-876E-39BF0B35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92FBBE-53DE-4608-B5B0-4F4310EB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0F47B8-5794-4D4F-9C5E-0CE2B2E7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6830B7-E462-4E15-831B-04194B3C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0E1A16-0A37-4143-8EE4-FEF93329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9AE1C9-9CEE-4C7A-8910-BCE12A2B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81CAE-C511-4473-897E-39A9C33F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CE214A-2025-4CD8-AF64-C9384F12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0E21AD-57CB-4758-BFC9-98DF67FE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2E8C84-6965-488D-BBAB-729BE938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BF3865-5C74-4D6C-BA81-B807B8B1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89CF9F-B807-410D-B144-39738EA8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172603-09DE-4726-9D26-12E16BA7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AFA1F8-CB17-416E-B5BD-D9589A2A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9664E6-89C0-4DD5-92CF-9C56234F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F496E6-73D1-4FA6-A430-DF721CE1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52E349-400C-443C-8D5E-C2C43A0E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B31D-7F58-4ABC-B85E-529141AB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66B1B0-8723-4F19-976D-CAD0C7CC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ACB5E5-62B0-4619-8BCE-51198BA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C25269-6A7D-45F1-86AE-98567E11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6D6FAE-4320-42B8-A465-54240EE8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D013B2-55F0-4546-BC88-78E199DC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5440BC-3A6F-4EE4-BF86-23F22CD7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D0B25D-08FB-41B8-AE00-4434DA27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654B7E-7EE6-4E80-A492-CFBEA575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066CC6-9445-4891-BECE-F43C95CA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C7CB10-C439-4B22-84D5-9F726F90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B9E49-7178-4807-B789-47A1F438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61BCB1-0BE5-41CE-A9F6-FE9B5C97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3D991A-26E8-48A9-A018-65FA3441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2F3A39-8E8F-4DCD-B2F2-320D8FBA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655A2A-6117-46EE-9443-94545109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9128C1-DF00-4B72-9C34-D1661AFB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7FADB9-28A1-49E1-BD0F-BF20148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BA6F4E-D3E2-4B00-8B09-08195A22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8B5651-D228-4EF0-AC13-0C0D2927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10FDC6-8D1D-43B0-89DB-5DB52B54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4A62BD-DBCF-43B2-88B8-945E6304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6E7C9-CF63-4903-A053-9AF0823E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3A2912-F772-43B4-B2D4-2E5B112A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79ABE5-3E08-4413-9987-FB1CB3BB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42DF4F-3CA0-4122-B06C-15EEBF34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C06048-F089-4C86-92C3-9C6DDA63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49C05F-5FCE-4D88-8B8C-F1E0A32F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9A38A4-49D1-4FB4-A4BA-3DB6EBBE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1B39AC-CB91-4C8A-9557-38F16576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BD933E-3F22-46BC-AE53-C744A704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ADF75F-0ABD-4CBD-BBC3-576980F6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E1B3AF-D592-4EC0-B39A-6BA4E11E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6AB6D-CA68-4C4F-84B9-C621D9F9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39A788-F9F1-402B-A1EF-627C241D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45B434-47C4-4ACA-B97A-62BC691E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0D1720-4D0A-43ED-ABCB-5D37E5A0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D7CD9B-D8F3-4E69-975A-CE12FF7D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03C844-B6A1-44D7-8FC5-D66C78AD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F89F5D-D90B-418F-8554-2B9CB83F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B1C20C-6CE2-45B0-96FF-E1CB6143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A80E8A-0688-481E-B986-33C93964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1EAD2C-65A3-42E2-871D-313F95A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CAFAAA-40AB-4FF0-9CD5-D9E74D3D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8DAA2-3929-4645-A2D3-D34BDCE7C088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8A8030-01C9-48DA-93CE-01068657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B118B7-B3B8-45ED-87EA-A56F2168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546D7B-84E0-4368-9943-BB8B88D1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F5E3A0-B48C-4798-9E74-B9D6326C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9B86D1-195F-4E6E-833D-CC40824F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9FEE70-01A6-4EA7-96AB-EF5291B6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A7D2D7-BB9A-49E0-9122-BDB0C7A4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F752A2-EC7D-4F0E-91ED-099D53BA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931ABF-4DCE-4714-A19D-851FB8F3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3DD8B5-95E1-447D-8A87-296EF257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E6C9B-19F2-4F73-A6B4-2D7FBD2AC44D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E8CE98-3A9E-457E-B053-0C2B5D35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D57262-DC9B-40C8-B7ED-ADFC8AFE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F2D8EE-C552-4EFB-9992-2A9656A0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30BB7B-4A6F-4483-B7E3-F756D5BC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EA3267-6DF3-46A9-B74C-2A37B9F4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3B4BE5-8B3C-4795-8F77-BC3C394A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85990E-1156-4BE4-BC9B-D6D810BA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2894DE-E334-4D73-9C76-452787F7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46BFD6-7737-4285-8D70-9B20B52B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6479BD-BD0C-43AA-9439-C950A8A7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BC864-4C4B-4A3B-9EEF-CFE4F21E0AF1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FC55FB-C74B-4A88-A3F9-8124E396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BD8B42-66E3-4F49-868B-F3D9AB3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08848D-4351-49A3-BB66-7199B437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4DD197-E105-4E9E-8923-4386E37C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33E7A7-7917-4B9E-BB4B-9FB4D298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FD5C74-3D66-403D-8AE9-89B61AF5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B2167F-FBAB-4BB1-9CBC-8EC111D4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942E0E-EB42-4740-A447-719FFE98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6C93EC-5081-4A40-85FF-8EC8A264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78CD45-5E93-4EBE-A9EF-04E4A45D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BF5-2CE1-4612-B58F-E842BBCC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BA7DA1-3240-4C26-B7CF-A17E9153F700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7A2B58-6D02-4CF7-A148-AF35A6E3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097EDB-E64B-491C-9E81-B2B694F4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DBAD99-D06D-45E1-886B-15302E1E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8C1E6B-C102-4B0E-8514-26687D1D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803F3B-3F6F-46BE-ACDF-2346912E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5C3B48-CE2F-4582-94EB-10763A8E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99DF89-AF5E-4AAB-8DFE-1931EE8D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36F47A-9A3D-4DCD-A17A-283DD920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51C4E8-26A2-47E0-879A-A362B731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D838B0-6019-4D9B-8A03-89291E94DDF2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5F306-E3B5-45FF-873A-DD7B308ED460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5C77A1C-BA50-491B-85EF-DD40E8F0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41C56A7-7412-460D-BF86-2798CE86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0D4CFFE-BEAF-4456-BB59-161215B1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BE51E77-9F82-4C55-9498-E83FF742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5959BC2-9B3E-46A3-829E-429B9F6E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07A9B6F-B9A1-431F-9F33-7FE64787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89B493D-59DF-4D61-A8F9-E9E6126C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289186A-DF8C-462C-8669-AE7CBBC6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448B851-5FBD-4A20-B0E3-D6DA1D93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ACF42-61DD-477F-AAE2-FF5C724124A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9B473E8-5225-4FFE-8D07-FE019728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64C7E8C-FE40-455A-9C0B-28E70EDD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CF54EC4-50AE-4455-A85F-CC27F299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CA1449B-C070-40E1-890B-BD4B83ED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AB39C79-CD8F-4767-8F25-953B13F5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D49498A-1EC9-49A3-BBDF-EB657B6A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2E3F0B2-CC8A-4E01-A9D1-C89A529B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8EC7F7C-438C-4CE6-AF2A-79F8132C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DEFF62F-6C72-42F3-9CD9-80B00054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C48044A-99F5-44E1-B224-CD9A4C30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FF4B04-041C-4CDE-99DA-5B2BFAAF908A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A6415E5-027D-48EF-8635-BA3BF940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8C584A9-5B7D-42B2-BC95-E0DE1E3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E8043A8-251D-46B3-962A-759BE147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CFE0529-FF21-452F-AADB-B1E5354D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AC4E5C9-AAAC-4019-A6F8-1BDAF1B8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693FCB5-D14C-443A-A093-BAD4B6C5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DEBAEC3-FFE8-421F-AD95-456B8548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68AFA78-1661-454F-9436-66EB34A2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D52D7BA-4A65-4A87-9FF0-FBDC60AC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0974120-89C3-464E-B85C-16E8C70B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13250-0D28-4953-BC02-CBC4A4F2805C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81FFEA3-8D2C-4A99-AB55-66D558EE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E279127-9198-47E7-B526-2EFB0AB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F442C9C-8078-4CDF-9D43-8F357D35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C62F117-199A-4FBA-957D-F2B7D015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6027EBF-E554-462A-91AC-57AB63B1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FF0F491-E94F-4D98-A989-C6E34901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3588BD1-9312-49E0-A17B-1225171B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AE4DCF7-011C-4DA3-9684-BEDCE63A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570FEE2-BC49-4B82-A37D-E50DE832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89E456F-2F69-4518-A0EA-362344BB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C634C-EFF3-4FB8-9ADF-AE798780E6A7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55D0F2E-8D65-46F7-A04A-162E6D3C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E492068-1835-40AD-98EE-F59C5DE8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04D2C6B-4A1A-4A4E-B397-E8A8DDC2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A440557-1A21-4936-B99A-59F59762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C11BD87-0F8C-4FA2-9054-B2946B92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2781C46-D46E-48C1-A140-2874E644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79B001A-4220-4B58-A531-5BCF8858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3C41D63-A454-4E6B-B7E0-0CE4823B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BA5127F-7F32-473E-A416-4C24A96C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F1E6F-D189-4103-B25F-3F101B61C7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D830B-3240-4012-91A1-931FF14926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C7F39-AF77-44C1-BFA1-F3096F19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856-F7F6-4B57-8F5C-CD8E56B9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A6F00-DB96-4306-8A77-0C86ABA1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0CFD2-FBEB-4E2A-8D22-50FFFB68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B0D08-9521-4D7B-A392-E2CCF9F9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49D3F-7ECA-4348-ABBB-5FD9CA8E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F4C53-4529-4F1E-B3EB-6BA0C426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BF887-FA00-4639-B7A5-E1F1ED6E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F7DBC-BAEF-49B6-8738-5710D55F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C6491-7D27-4683-8D2F-714BC228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D337E-0971-4393-BFB5-DF94FE92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83D50-3E6D-4B09-BCB7-04B9C1A3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D3C-317D-4D2E-823F-F5C76F58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3E3A9-B9D5-4F1A-B596-3C1C1755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1DDC6-462D-485D-AB7C-3A4B1387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C2DF5-6973-4AB4-9F33-F9D74CFB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203D6-CD0F-403A-8AB4-217F120E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A9030-F808-4B34-B821-47D82EFE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22B45-3C50-4E89-9541-A30C79CB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542B2-3C2B-45EA-BD0C-FA03CD13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C72478-C471-40F9-B858-789E01B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DDB01-5378-404E-94CA-B3AB78ED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16A04-D228-480F-9FC4-9CF413D2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C87-170F-4E89-86E1-FD19E62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BE5A0-E38D-4149-AC75-55727ACD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4833E-F119-485A-9551-3C825B27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75F71-8224-4E3A-8863-2815C76B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B08-D40E-4AA3-9607-C19D789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BA4-B3F9-452B-A7AE-11C6AB92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7312-FA60-4273-BEAD-BC4D655AE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CE0D-6FBB-4619-98BD-ED18E037B47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D370-D6D7-4560-9778-639EEB40F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881A-9D37-4F57-B896-819938D03C7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9496-014B-4D1E-AE33-37CAD2FDE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C5E5-84A4-4F4E-B563-0E9CF591805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414C-01EA-4A9A-8424-9783FED63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0673-2440-4066-8C87-8F6CB3AD979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2A0C-2707-4E18-9D36-B3E77D2B2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046E-8361-4699-AC2E-6AF703CE7AF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3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D698-C0F1-48C2-AB2B-B670F7D7FCC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3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3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6B2C-01F1-4518-8859-8B07325F8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C719-BAFF-4618-A07E-0CD095DEFFF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5B3B-CBB3-46D6-8481-7EEC4A47A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F4CB-FEA4-481C-A229-89F80F77434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43E9-CA34-44E3-8B78-0EB33802F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7581-BE1A-4978-B3E0-E366B3F4672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2BD7-F726-4344-A92E-DC08FD6EB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D040-4735-4DAD-B4BD-85391A272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5D7D-3295-446A-B078-C8389275188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802D-EA45-4509-B35B-900E98BAD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9143-C629-451C-A8BF-029F37D0C71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3FB6-6C86-486E-8A25-B8362FF87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45DC-9086-4589-8037-79AAD828330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5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5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9D77-5E8E-45F9-B930-B26DE3E42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2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F880-9D91-45E3-8870-E65444CD4B0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5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5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829D-29C0-4E88-B3DA-82EC78D7F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56A9-C882-4D52-95FE-10924E064EE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6605-7D84-4B59-B6A5-8B56C69A5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E1AD-A08F-4679-B44A-3490D21A9DE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973B-D75A-4316-8B19-830381DEF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3D24-51CE-405B-9E5C-BE03A6957B8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3268-6697-4C7B-97D1-D962A0991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9538-2D44-4191-8FC6-4EECADC4757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6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6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B829-25CC-4F5D-A377-183AD3A9E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F4AB-EF52-4E0E-9AB9-C8E78A4F2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2F79-8B1C-4101-873B-2A438A5896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9BDB-3362-4E71-99D4-E3CD10E3E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6ACB-2AE8-4ACD-80D3-1001D45FF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243B-1DC5-4E93-B72D-D9A2685FCF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8C21-71FE-4643-BE53-E6780E98B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DB12-7302-4980-9DF0-B2FC9678E6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92B8-2AFE-43A1-807B-2D44830B7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D6BC-7785-42DB-98E0-23E45530F8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BFD5-4901-4EB7-945F-EBB008C7D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FC0F-1C76-4248-9AB8-D1063CCF23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8D8-A35B-496E-A107-DB3E2E7FA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32B4-B61A-469A-87B1-C818CFB601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F917-AA80-4016-9663-5EC7E48F1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39A2-BA4E-4948-B746-16962B3A19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74F7-22A4-498E-AA78-8F2671EEC3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98FD-2FCD-4DC1-8182-722FEE5A6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5052-01A8-4DBA-B311-F7861A0025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0A34-FB52-43DE-95E1-69E3B6000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8183-DFF1-453E-A500-8E1D31D269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56E5-BC31-4AC4-8E53-3062233E2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83BC-3B65-4BFE-B9FA-892AEC2F20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59F6-9C49-4AFC-8198-877395E45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A45A-F9B6-4922-AB1C-D896073DE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080F-C911-4FFA-B49D-890EDDE87E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227D-DC6D-4D7D-87B8-3E2495CB2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93DE-7227-40A7-A794-0719685D26F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7CFB-38DA-47F1-8E23-1B95281B1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409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Subtitle 2" descr=""/>
          <p:cNvPicPr/>
          <p:nvPr/>
        </p:nvPicPr>
        <p:blipFill>
          <a:blip r:embed="rId1"/>
          <a:stretch/>
        </p:blipFill>
        <p:spPr>
          <a:xfrm>
            <a:off x="1670040" y="3389400"/>
            <a:ext cx="5578560" cy="146376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643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6700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647" name="Rectangle 9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Picture 2" descr=""/>
          <p:cNvPicPr/>
          <p:nvPr/>
        </p:nvPicPr>
        <p:blipFill>
          <a:blip r:embed="rId1"/>
          <a:stretch/>
        </p:blipFill>
        <p:spPr>
          <a:xfrm>
            <a:off x="120600" y="1757520"/>
            <a:ext cx="8866080" cy="4497120"/>
          </a:xfrm>
          <a:prstGeom prst="rect">
            <a:avLst/>
          </a:prstGeom>
          <a:ln w="0">
            <a:noFill/>
          </a:ln>
        </p:spPr>
      </p:pic>
      <p:sp>
        <p:nvSpPr>
          <p:cNvPr id="1989" name="TextBox 3"/>
          <p:cNvSpPr/>
          <p:nvPr/>
        </p:nvSpPr>
        <p:spPr>
          <a:xfrm>
            <a:off x="157680" y="533520"/>
            <a:ext cx="8926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le of Farming Systems in Bridging CAADP-CGIAR Ag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Dublin Process A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4"/>
          <p:cNvSpPr/>
          <p:nvPr/>
        </p:nvSpPr>
        <p:spPr>
          <a:xfrm>
            <a:off x="242280" y="625644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aft  Conceptual Framework, Nov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1" name="Group 52"/>
          <p:cNvGrpSpPr/>
          <p:nvPr/>
        </p:nvGrpSpPr>
        <p:grpSpPr>
          <a:xfrm>
            <a:off x="341280" y="1079640"/>
            <a:ext cx="5129280" cy="5194080"/>
            <a:chOff x="341280" y="1079640"/>
            <a:chExt cx="5129280" cy="5194080"/>
          </a:xfrm>
        </p:grpSpPr>
        <p:sp>
          <p:nvSpPr>
            <p:cNvPr id="1992" name="Rectangle 49"/>
            <p:cNvSpPr/>
            <p:nvPr/>
          </p:nvSpPr>
          <p:spPr>
            <a:xfrm>
              <a:off x="595080" y="107964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astern &amp; Southern Africa Maize-based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8"/>
            <p:cNvSpPr/>
            <p:nvPr/>
          </p:nvSpPr>
          <p:spPr>
            <a:xfrm>
              <a:off x="341280" y="143172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thiopian Highl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5"/>
          <p:cNvSpPr/>
          <p:nvPr/>
        </p:nvSpPr>
        <p:spPr>
          <a:xfrm>
            <a:off x="111240" y="1765440"/>
            <a:ext cx="4876560" cy="48402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udano-Sahelia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5" name="Group 59"/>
          <p:cNvGrpSpPr/>
          <p:nvPr/>
        </p:nvGrpSpPr>
        <p:grpSpPr>
          <a:xfrm>
            <a:off x="276120" y="2540160"/>
            <a:ext cx="4492800" cy="3993840"/>
            <a:chOff x="276120" y="2540160"/>
            <a:chExt cx="4492800" cy="3993840"/>
          </a:xfrm>
        </p:grpSpPr>
        <p:sp>
          <p:nvSpPr>
            <p:cNvPr id="1996" name="TextBox 44"/>
            <p:cNvSpPr/>
            <p:nvPr/>
          </p:nvSpPr>
          <p:spPr>
            <a:xfrm>
              <a:off x="276120" y="499140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7" name="Group 51"/>
            <p:cNvGrpSpPr/>
            <p:nvPr/>
          </p:nvGrpSpPr>
          <p:grpSpPr>
            <a:xfrm>
              <a:off x="329400" y="2540160"/>
              <a:ext cx="4439520" cy="3993840"/>
              <a:chOff x="329400" y="2540160"/>
              <a:chExt cx="4439520" cy="3993840"/>
            </a:xfrm>
          </p:grpSpPr>
          <p:sp>
            <p:nvSpPr>
              <p:cNvPr id="1998" name="Freeform 17"/>
              <p:cNvSpPr/>
              <p:nvPr/>
            </p:nvSpPr>
            <p:spPr>
              <a:xfrm>
                <a:off x="1148760" y="2540160"/>
                <a:ext cx="3620160" cy="3887640"/>
              </a:xfrm>
              <a:custGeom>
                <a:avLst/>
                <a:gdLst/>
                <a:ahLst/>
                <a:rect l="l" t="t" r="r" b="b"/>
                <a:pathLst>
                  <a:path w="846312" h="590559">
                    <a:moveTo>
                      <a:pt x="139145" y="62327"/>
                    </a:moveTo>
                    <a:cubicBezTo>
                      <a:pt x="215345" y="36811"/>
                      <a:pt x="365568" y="-5859"/>
                      <a:pt x="478779" y="672"/>
                    </a:cubicBezTo>
                    <a:cubicBezTo>
                      <a:pt x="591990" y="7203"/>
                      <a:pt x="766162" y="36811"/>
                      <a:pt x="818413" y="101515"/>
                    </a:cubicBezTo>
                    <a:cubicBezTo>
                      <a:pt x="870665" y="166219"/>
                      <a:pt x="842362" y="308344"/>
                      <a:pt x="792288" y="388898"/>
                    </a:cubicBezTo>
                    <a:cubicBezTo>
                      <a:pt x="742214" y="469452"/>
                      <a:pt x="583282" y="560893"/>
                      <a:pt x="517968" y="584841"/>
                    </a:cubicBezTo>
                    <a:cubicBezTo>
                      <a:pt x="452654" y="608789"/>
                      <a:pt x="441950" y="550924"/>
                      <a:pt x="400402" y="532589"/>
                    </a:cubicBezTo>
                    <a:cubicBezTo>
                      <a:pt x="358854" y="514254"/>
                      <a:pt x="333717" y="495498"/>
                      <a:pt x="268679" y="474832"/>
                    </a:cubicBezTo>
                    <a:cubicBezTo>
                      <a:pt x="203641" y="454166"/>
                      <a:pt x="49180" y="440334"/>
                      <a:pt x="10174" y="408595"/>
                    </a:cubicBezTo>
                    <a:cubicBezTo>
                      <a:pt x="-28832" y="376856"/>
                      <a:pt x="58591" y="319229"/>
                      <a:pt x="34642" y="284395"/>
                    </a:cubicBezTo>
                    <a:cubicBezTo>
                      <a:pt x="10693" y="249561"/>
                      <a:pt x="6339" y="192956"/>
                      <a:pt x="21579" y="153767"/>
                    </a:cubicBezTo>
                    <a:cubicBezTo>
                      <a:pt x="36819" y="114579"/>
                      <a:pt x="62945" y="87843"/>
                      <a:pt x="139145" y="62327"/>
                    </a:cubicBezTo>
                    <a:close/>
                  </a:path>
                </a:pathLst>
              </a:custGeom>
              <a:solidFill>
                <a:srgbClr val="c3d69b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46"/>
              <p:cNvSpPr/>
              <p:nvPr/>
            </p:nvSpPr>
            <p:spPr>
              <a:xfrm>
                <a:off x="329400" y="5389560"/>
                <a:ext cx="1497240" cy="1144440"/>
              </a:xfrm>
              <a:custGeom>
                <a:avLst/>
                <a:gdLst/>
                <a:ahLst/>
                <a:rect l="l" t="t" r="r" b="b"/>
                <a:pathLst>
                  <a:path w="700442" h="450127">
                    <a:moveTo>
                      <a:pt x="47680" y="152"/>
                    </a:moveTo>
                    <a:cubicBezTo>
                      <a:pt x="150531" y="4734"/>
                      <a:pt x="595121" y="86424"/>
                      <a:pt x="677852" y="158270"/>
                    </a:cubicBezTo>
                    <a:cubicBezTo>
                      <a:pt x="760583" y="230116"/>
                      <a:pt x="593089" y="386741"/>
                      <a:pt x="544069" y="431226"/>
                    </a:cubicBezTo>
                    <a:cubicBezTo>
                      <a:pt x="495049" y="475711"/>
                      <a:pt x="458886" y="428114"/>
                      <a:pt x="383731" y="425182"/>
                    </a:cubicBezTo>
                    <a:cubicBezTo>
                      <a:pt x="308576" y="422250"/>
                      <a:pt x="151050" y="442000"/>
                      <a:pt x="93141" y="413633"/>
                    </a:cubicBezTo>
                    <a:cubicBezTo>
                      <a:pt x="35232" y="385266"/>
                      <a:pt x="41675" y="302122"/>
                      <a:pt x="36275" y="254980"/>
                    </a:cubicBezTo>
                    <a:cubicBezTo>
                      <a:pt x="30875" y="207838"/>
                      <a:pt x="84692" y="165614"/>
                      <a:pt x="60743" y="130780"/>
                    </a:cubicBezTo>
                    <a:cubicBezTo>
                      <a:pt x="36794" y="95946"/>
                      <a:pt x="-55171" y="-4430"/>
                      <a:pt x="47680" y="152"/>
                    </a:cubicBezTo>
                    <a:close/>
                  </a:path>
                </a:pathLst>
              </a:custGeom>
              <a:solidFill>
                <a:srgbClr val="99ff33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0" name="Group 56"/>
          <p:cNvGrpSpPr/>
          <p:nvPr/>
        </p:nvGrpSpPr>
        <p:grpSpPr>
          <a:xfrm>
            <a:off x="452520" y="2608200"/>
            <a:ext cx="4048200" cy="3156120"/>
            <a:chOff x="452520" y="2608200"/>
            <a:chExt cx="4048200" cy="3156120"/>
          </a:xfrm>
        </p:grpSpPr>
        <p:grpSp>
          <p:nvGrpSpPr>
            <p:cNvPr id="2001" name="Group 54"/>
            <p:cNvGrpSpPr/>
            <p:nvPr/>
          </p:nvGrpSpPr>
          <p:grpSpPr>
            <a:xfrm>
              <a:off x="452520" y="2608200"/>
              <a:ext cx="4048200" cy="3156120"/>
              <a:chOff x="452520" y="2608200"/>
              <a:chExt cx="4048200" cy="3156120"/>
            </a:xfrm>
          </p:grpSpPr>
          <p:grpSp>
            <p:nvGrpSpPr>
              <p:cNvPr id="2002" name="Group 20"/>
              <p:cNvGrpSpPr/>
              <p:nvPr/>
            </p:nvGrpSpPr>
            <p:grpSpPr>
              <a:xfrm>
                <a:off x="1794960" y="2947680"/>
                <a:ext cx="2705760" cy="2816640"/>
                <a:chOff x="1794960" y="2947680"/>
                <a:chExt cx="2705760" cy="2816640"/>
              </a:xfrm>
            </p:grpSpPr>
            <p:sp>
              <p:nvSpPr>
                <p:cNvPr id="2003" name="Freeform 10"/>
                <p:cNvSpPr/>
                <p:nvPr/>
              </p:nvSpPr>
              <p:spPr>
                <a:xfrm>
                  <a:off x="2812680" y="3455640"/>
                  <a:ext cx="808200" cy="677880"/>
                </a:xfrm>
                <a:custGeom>
                  <a:avLst/>
                  <a:gdLst/>
                  <a:ahLst/>
                  <a:rect l="l" t="t" r="r" b="b"/>
                  <a:pathLst>
                    <a:path w="808354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88307" y="146869"/>
                        <a:pt x="805724" y="188235"/>
                      </a:cubicBezTo>
                      <a:cubicBezTo>
                        <a:pt x="823141" y="229601"/>
                        <a:pt x="716461" y="223069"/>
                        <a:pt x="714284" y="253549"/>
                      </a:cubicBezTo>
                      <a:cubicBezTo>
                        <a:pt x="712107" y="284029"/>
                        <a:pt x="781775" y="334104"/>
                        <a:pt x="792661" y="371115"/>
                      </a:cubicBezTo>
                      <a:cubicBezTo>
                        <a:pt x="803547" y="408126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5130" y="543109"/>
                        <a:pt x="361587" y="540932"/>
                      </a:cubicBezTo>
                      <a:cubicBezTo>
                        <a:pt x="318044" y="538755"/>
                        <a:pt x="161290" y="621487"/>
                        <a:pt x="126456" y="606247"/>
                      </a:cubicBezTo>
                      <a:cubicBezTo>
                        <a:pt x="91622" y="591007"/>
                        <a:pt x="169998" y="488681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Freeform 13"/>
                <p:cNvSpPr/>
                <p:nvPr/>
              </p:nvSpPr>
              <p:spPr>
                <a:xfrm>
                  <a:off x="3851280" y="3266640"/>
                  <a:ext cx="649440" cy="868320"/>
                </a:xfrm>
                <a:custGeom>
                  <a:avLst/>
                  <a:gdLst/>
                  <a:ahLst/>
                  <a:rect l="l" t="t" r="r" b="b"/>
                  <a:pathLst>
                    <a:path w="649272" h="867634">
                      <a:moveTo>
                        <a:pt x="105001" y="127848"/>
                      </a:moveTo>
                      <a:cubicBezTo>
                        <a:pt x="157252" y="108254"/>
                        <a:pt x="224744" y="-39792"/>
                        <a:pt x="314007" y="10282"/>
                      </a:cubicBezTo>
                      <a:cubicBezTo>
                        <a:pt x="403270" y="60356"/>
                        <a:pt x="601390" y="360803"/>
                        <a:pt x="640579" y="428294"/>
                      </a:cubicBezTo>
                      <a:cubicBezTo>
                        <a:pt x="679768" y="495786"/>
                        <a:pt x="575265" y="345563"/>
                        <a:pt x="549139" y="415231"/>
                      </a:cubicBezTo>
                      <a:cubicBezTo>
                        <a:pt x="523013" y="484900"/>
                        <a:pt x="518658" y="785345"/>
                        <a:pt x="483824" y="846305"/>
                      </a:cubicBezTo>
                      <a:cubicBezTo>
                        <a:pt x="448990" y="907265"/>
                        <a:pt x="411979" y="822357"/>
                        <a:pt x="340133" y="780991"/>
                      </a:cubicBezTo>
                      <a:cubicBezTo>
                        <a:pt x="268287" y="739625"/>
                        <a:pt x="105001" y="641654"/>
                        <a:pt x="52750" y="598111"/>
                      </a:cubicBezTo>
                      <a:cubicBezTo>
                        <a:pt x="499" y="554568"/>
                        <a:pt x="9207" y="561100"/>
                        <a:pt x="26624" y="519734"/>
                      </a:cubicBezTo>
                      <a:cubicBezTo>
                        <a:pt x="44041" y="478368"/>
                        <a:pt x="161607" y="415231"/>
                        <a:pt x="157253" y="349917"/>
                      </a:cubicBezTo>
                      <a:cubicBezTo>
                        <a:pt x="152899" y="284603"/>
                        <a:pt x="7031" y="169214"/>
                        <a:pt x="499" y="127848"/>
                      </a:cubicBezTo>
                      <a:cubicBezTo>
                        <a:pt x="-6033" y="86482"/>
                        <a:pt x="52750" y="147442"/>
                        <a:pt x="105001" y="127848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Freeform 14"/>
                <p:cNvSpPr/>
                <p:nvPr/>
              </p:nvSpPr>
              <p:spPr>
                <a:xfrm>
                  <a:off x="1794960" y="4128840"/>
                  <a:ext cx="843120" cy="1014480"/>
                </a:xfrm>
                <a:custGeom>
                  <a:avLst/>
                  <a:gdLst/>
                  <a:ahLst/>
                  <a:rect l="l" t="t" r="r" b="b"/>
                  <a:pathLst>
                    <a:path w="843315" h="1014208">
                      <a:moveTo>
                        <a:pt x="368999" y="470328"/>
                      </a:moveTo>
                      <a:cubicBezTo>
                        <a:pt x="338519" y="498631"/>
                        <a:pt x="382062" y="439848"/>
                        <a:pt x="460439" y="431140"/>
                      </a:cubicBezTo>
                      <a:cubicBezTo>
                        <a:pt x="538816" y="422432"/>
                        <a:pt x="806605" y="372357"/>
                        <a:pt x="839262" y="418077"/>
                      </a:cubicBezTo>
                      <a:cubicBezTo>
                        <a:pt x="871919" y="463797"/>
                        <a:pt x="697748" y="607489"/>
                        <a:pt x="656382" y="705460"/>
                      </a:cubicBezTo>
                      <a:cubicBezTo>
                        <a:pt x="615016" y="803431"/>
                        <a:pt x="667268" y="973248"/>
                        <a:pt x="591068" y="1005905"/>
                      </a:cubicBezTo>
                      <a:cubicBezTo>
                        <a:pt x="514868" y="1038562"/>
                        <a:pt x="290622" y="968893"/>
                        <a:pt x="199182" y="901402"/>
                      </a:cubicBezTo>
                      <a:cubicBezTo>
                        <a:pt x="107742" y="833911"/>
                        <a:pt x="75085" y="690220"/>
                        <a:pt x="42428" y="600957"/>
                      </a:cubicBezTo>
                      <a:cubicBezTo>
                        <a:pt x="9771" y="511694"/>
                        <a:pt x="-7647" y="424608"/>
                        <a:pt x="3239" y="365825"/>
                      </a:cubicBezTo>
                      <a:cubicBezTo>
                        <a:pt x="14125" y="307042"/>
                        <a:pt x="64199" y="293980"/>
                        <a:pt x="107742" y="248260"/>
                      </a:cubicBezTo>
                      <a:cubicBezTo>
                        <a:pt x="151285" y="202540"/>
                        <a:pt x="199182" y="132871"/>
                        <a:pt x="264496" y="91505"/>
                      </a:cubicBezTo>
                      <a:cubicBezTo>
                        <a:pt x="329810" y="50139"/>
                        <a:pt x="436491" y="-2112"/>
                        <a:pt x="499628" y="65"/>
                      </a:cubicBezTo>
                      <a:cubicBezTo>
                        <a:pt x="562765" y="2242"/>
                        <a:pt x="619371" y="61025"/>
                        <a:pt x="643319" y="104568"/>
                      </a:cubicBezTo>
                      <a:cubicBezTo>
                        <a:pt x="667267" y="148111"/>
                        <a:pt x="682507" y="200362"/>
                        <a:pt x="643319" y="261322"/>
                      </a:cubicBezTo>
                      <a:cubicBezTo>
                        <a:pt x="604131" y="322282"/>
                        <a:pt x="399479" y="442025"/>
                        <a:pt x="368999" y="47032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Freeform 15"/>
                <p:cNvSpPr/>
                <p:nvPr/>
              </p:nvSpPr>
              <p:spPr>
                <a:xfrm>
                  <a:off x="3454200" y="4259160"/>
                  <a:ext cx="817560" cy="677880"/>
                </a:xfrm>
                <a:custGeom>
                  <a:avLst/>
                  <a:gdLst/>
                  <a:ahLst/>
                  <a:rect l="l" t="t" r="r" b="b"/>
                  <a:pathLst>
                    <a:path w="817237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75244" y="127275"/>
                        <a:pt x="805724" y="188235"/>
                      </a:cubicBezTo>
                      <a:cubicBezTo>
                        <a:pt x="836204" y="249195"/>
                        <a:pt x="797015" y="323218"/>
                        <a:pt x="792661" y="371115"/>
                      </a:cubicBezTo>
                      <a:cubicBezTo>
                        <a:pt x="788307" y="419012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0776" y="569235"/>
                        <a:pt x="361587" y="540932"/>
                      </a:cubicBezTo>
                      <a:cubicBezTo>
                        <a:pt x="322398" y="512629"/>
                        <a:pt x="209187" y="477795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11"/>
                <p:cNvSpPr/>
                <p:nvPr/>
              </p:nvSpPr>
              <p:spPr>
                <a:xfrm>
                  <a:off x="3098520" y="4861080"/>
                  <a:ext cx="760680" cy="903240"/>
                </a:xfrm>
                <a:custGeom>
                  <a:avLst/>
                  <a:gdLst/>
                  <a:ahLst/>
                  <a:rect l="l" t="t" r="r" b="b"/>
                  <a:pathLst>
                    <a:path w="759599" h="903484">
                      <a:moveTo>
                        <a:pt x="275055" y="223207"/>
                      </a:moveTo>
                      <a:cubicBezTo>
                        <a:pt x="284852" y="188373"/>
                        <a:pt x="294650" y="153539"/>
                        <a:pt x="327307" y="144830"/>
                      </a:cubicBezTo>
                      <a:cubicBezTo>
                        <a:pt x="359964" y="136121"/>
                        <a:pt x="442695" y="142652"/>
                        <a:pt x="470998" y="170955"/>
                      </a:cubicBezTo>
                      <a:cubicBezTo>
                        <a:pt x="499301" y="199258"/>
                        <a:pt x="470998" y="290698"/>
                        <a:pt x="497124" y="314647"/>
                      </a:cubicBezTo>
                      <a:cubicBezTo>
                        <a:pt x="523250" y="338596"/>
                        <a:pt x="584210" y="288521"/>
                        <a:pt x="627753" y="314647"/>
                      </a:cubicBezTo>
                      <a:cubicBezTo>
                        <a:pt x="671296" y="340773"/>
                        <a:pt x="747495" y="416973"/>
                        <a:pt x="758381" y="471401"/>
                      </a:cubicBezTo>
                      <a:cubicBezTo>
                        <a:pt x="769267" y="525829"/>
                        <a:pt x="703953" y="591144"/>
                        <a:pt x="693067" y="641218"/>
                      </a:cubicBezTo>
                      <a:cubicBezTo>
                        <a:pt x="682181" y="691292"/>
                        <a:pt x="706130" y="754430"/>
                        <a:pt x="693067" y="771847"/>
                      </a:cubicBezTo>
                      <a:cubicBezTo>
                        <a:pt x="680004" y="789264"/>
                        <a:pt x="662587" y="745721"/>
                        <a:pt x="614690" y="745721"/>
                      </a:cubicBezTo>
                      <a:cubicBezTo>
                        <a:pt x="566793" y="745721"/>
                        <a:pt x="470998" y="745721"/>
                        <a:pt x="405684" y="771847"/>
                      </a:cubicBezTo>
                      <a:cubicBezTo>
                        <a:pt x="340370" y="797973"/>
                        <a:pt x="277232" y="915538"/>
                        <a:pt x="222804" y="902475"/>
                      </a:cubicBezTo>
                      <a:cubicBezTo>
                        <a:pt x="168376" y="889412"/>
                        <a:pt x="113947" y="760961"/>
                        <a:pt x="79113" y="693470"/>
                      </a:cubicBezTo>
                      <a:cubicBezTo>
                        <a:pt x="44279" y="625979"/>
                        <a:pt x="26861" y="573727"/>
                        <a:pt x="13798" y="497527"/>
                      </a:cubicBezTo>
                      <a:cubicBezTo>
                        <a:pt x="735" y="421327"/>
                        <a:pt x="-1442" y="319001"/>
                        <a:pt x="735" y="236270"/>
                      </a:cubicBezTo>
                      <a:cubicBezTo>
                        <a:pt x="2912" y="153539"/>
                        <a:pt x="2912" y="14201"/>
                        <a:pt x="26861" y="1138"/>
                      </a:cubicBezTo>
                      <a:cubicBezTo>
                        <a:pt x="50810" y="-11925"/>
                        <a:pt x="127010" y="90401"/>
                        <a:pt x="144427" y="157893"/>
                      </a:cubicBezTo>
                      <a:cubicBezTo>
                        <a:pt x="161844" y="225385"/>
                        <a:pt x="116124" y="369076"/>
                        <a:pt x="131364" y="406087"/>
                      </a:cubicBezTo>
                      <a:cubicBezTo>
                        <a:pt x="146604" y="443098"/>
                        <a:pt x="205387" y="421327"/>
                        <a:pt x="235867" y="379961"/>
                      </a:cubicBezTo>
                      <a:cubicBezTo>
                        <a:pt x="266347" y="338595"/>
                        <a:pt x="303358" y="192727"/>
                        <a:pt x="314244" y="157893"/>
                      </a:cubicBezTo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Freeform 16"/>
                <p:cNvSpPr/>
                <p:nvPr/>
              </p:nvSpPr>
              <p:spPr>
                <a:xfrm>
                  <a:off x="1794960" y="2947680"/>
                  <a:ext cx="642960" cy="831960"/>
                </a:xfrm>
                <a:custGeom>
                  <a:avLst/>
                  <a:gdLst/>
                  <a:ahLst/>
                  <a:rect l="l" t="t" r="r" b="b"/>
                  <a:pathLst>
                    <a:path w="827729" h="620363">
                      <a:moveTo>
                        <a:pt x="126456" y="91883"/>
                      </a:moveTo>
                      <a:cubicBezTo>
                        <a:pt x="202656" y="61403"/>
                        <a:pt x="352879" y="-6088"/>
                        <a:pt x="466090" y="443"/>
                      </a:cubicBezTo>
                      <a:cubicBezTo>
                        <a:pt x="579301" y="6974"/>
                        <a:pt x="751295" y="78820"/>
                        <a:pt x="805724" y="131071"/>
                      </a:cubicBezTo>
                      <a:cubicBezTo>
                        <a:pt x="860153" y="183322"/>
                        <a:pt x="797015" y="266054"/>
                        <a:pt x="792661" y="313951"/>
                      </a:cubicBezTo>
                      <a:cubicBezTo>
                        <a:pt x="788307" y="361848"/>
                        <a:pt x="827496" y="368380"/>
                        <a:pt x="779599" y="418454"/>
                      </a:cubicBezTo>
                      <a:cubicBezTo>
                        <a:pt x="731702" y="468528"/>
                        <a:pt x="570593" y="590449"/>
                        <a:pt x="505279" y="614397"/>
                      </a:cubicBezTo>
                      <a:cubicBezTo>
                        <a:pt x="439965" y="638345"/>
                        <a:pt x="411662" y="583916"/>
                        <a:pt x="387713" y="562145"/>
                      </a:cubicBezTo>
                      <a:cubicBezTo>
                        <a:pt x="363764" y="540374"/>
                        <a:pt x="400776" y="512071"/>
                        <a:pt x="361587" y="483768"/>
                      </a:cubicBezTo>
                      <a:cubicBezTo>
                        <a:pt x="322398" y="455465"/>
                        <a:pt x="209187" y="420631"/>
                        <a:pt x="152581" y="392328"/>
                      </a:cubicBezTo>
                      <a:cubicBezTo>
                        <a:pt x="135164" y="353139"/>
                        <a:pt x="45902" y="348785"/>
                        <a:pt x="21953" y="313951"/>
                      </a:cubicBezTo>
                      <a:cubicBezTo>
                        <a:pt x="-1996" y="279117"/>
                        <a:pt x="-6350" y="222512"/>
                        <a:pt x="8890" y="183323"/>
                      </a:cubicBezTo>
                      <a:cubicBezTo>
                        <a:pt x="24130" y="144135"/>
                        <a:pt x="50256" y="122363"/>
                        <a:pt x="126456" y="91883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9" name="TextBox 38"/>
              <p:cNvSpPr/>
              <p:nvPr/>
            </p:nvSpPr>
            <p:spPr>
              <a:xfrm>
                <a:off x="452520" y="2608200"/>
                <a:ext cx="78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ub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0" name="Straight Arrow Connector 41"/>
              <p:cNvCxnSpPr>
                <a:endCxn id="2005" idx="7"/>
              </p:cNvCxnSpPr>
              <p:nvPr/>
            </p:nvCxnSpPr>
            <p:spPr>
              <a:xfrm>
                <a:off x="838080" y="3160080"/>
                <a:ext cx="961200" cy="1335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cxnSp>
          <p:nvCxnSpPr>
            <p:cNvPr id="2011" name="Straight Arrow Connector 40"/>
            <p:cNvCxnSpPr>
              <a:endCxn id="2008" idx="10"/>
            </p:cNvCxnSpPr>
            <p:nvPr/>
          </p:nvCxnSpPr>
          <p:spPr>
            <a:xfrm>
              <a:off x="1257120" y="2918880"/>
              <a:ext cx="545040" cy="27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012" name="Group 57"/>
          <p:cNvGrpSpPr/>
          <p:nvPr/>
        </p:nvGrpSpPr>
        <p:grpSpPr>
          <a:xfrm>
            <a:off x="1985760" y="1984320"/>
            <a:ext cx="2266920" cy="4521960"/>
            <a:chOff x="1985760" y="1984320"/>
            <a:chExt cx="2266920" cy="4521960"/>
          </a:xfrm>
        </p:grpSpPr>
        <p:sp>
          <p:nvSpPr>
            <p:cNvPr id="2013" name="TextBox 25"/>
            <p:cNvSpPr/>
            <p:nvPr/>
          </p:nvSpPr>
          <p:spPr>
            <a:xfrm>
              <a:off x="2977200" y="198432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TextBox 26"/>
            <p:cNvSpPr/>
            <p:nvPr/>
          </p:nvSpPr>
          <p:spPr>
            <a:xfrm>
              <a:off x="1993320" y="613800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Straight Connector 22"/>
            <p:cNvSpPr/>
            <p:nvPr/>
          </p:nvSpPr>
          <p:spPr>
            <a:xfrm flipH="1">
              <a:off x="1985760" y="2033280"/>
              <a:ext cx="2266920" cy="427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Group 58"/>
          <p:cNvGrpSpPr/>
          <p:nvPr/>
        </p:nvGrpSpPr>
        <p:grpSpPr>
          <a:xfrm>
            <a:off x="1908000" y="1742760"/>
            <a:ext cx="2683440" cy="3800880"/>
            <a:chOff x="1908000" y="1742760"/>
            <a:chExt cx="2683440" cy="3800880"/>
          </a:xfrm>
        </p:grpSpPr>
        <p:cxnSp>
          <p:nvCxnSpPr>
            <p:cNvPr id="2017" name="Straight Arrow Connector 37"/>
            <p:cNvCxnSpPr/>
            <p:nvPr/>
          </p:nvCxnSpPr>
          <p:spPr>
            <a:xfrm>
              <a:off x="4590720" y="1742760"/>
              <a:ext cx="1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2018" name="Group 53"/>
            <p:cNvGrpSpPr/>
            <p:nvPr/>
          </p:nvGrpSpPr>
          <p:grpSpPr>
            <a:xfrm>
              <a:off x="1908000" y="2108160"/>
              <a:ext cx="2536920" cy="3435480"/>
              <a:chOff x="1908000" y="2108160"/>
              <a:chExt cx="2536920" cy="3435480"/>
            </a:xfrm>
          </p:grpSpPr>
          <p:grpSp>
            <p:nvGrpSpPr>
              <p:cNvPr id="2019" name="Group 50"/>
              <p:cNvGrpSpPr/>
              <p:nvPr/>
            </p:nvGrpSpPr>
            <p:grpSpPr>
              <a:xfrm>
                <a:off x="2045520" y="3287880"/>
                <a:ext cx="2399400" cy="2255760"/>
                <a:chOff x="2045520" y="3287880"/>
                <a:chExt cx="2399400" cy="2255760"/>
              </a:xfrm>
            </p:grpSpPr>
            <p:sp>
              <p:nvSpPr>
                <p:cNvPr id="2020" name="TextBox 7"/>
                <p:cNvSpPr/>
                <p:nvPr/>
              </p:nvSpPr>
              <p:spPr>
                <a:xfrm>
                  <a:off x="3289680" y="4962240"/>
                  <a:ext cx="38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1" name="Group 19"/>
                <p:cNvGrpSpPr/>
                <p:nvPr/>
              </p:nvGrpSpPr>
              <p:grpSpPr>
                <a:xfrm>
                  <a:off x="2045520" y="3287880"/>
                  <a:ext cx="2399400" cy="1285200"/>
                  <a:chOff x="2045520" y="3287880"/>
                  <a:chExt cx="2399400" cy="1285200"/>
                </a:xfrm>
              </p:grpSpPr>
              <p:sp>
                <p:nvSpPr>
                  <p:cNvPr id="2022" name="TextBox 4"/>
                  <p:cNvSpPr/>
                  <p:nvPr/>
                </p:nvSpPr>
                <p:spPr>
                  <a:xfrm>
                    <a:off x="3094560" y="336204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TextBox 8"/>
                  <p:cNvSpPr/>
                  <p:nvPr/>
                </p:nvSpPr>
                <p:spPr>
                  <a:xfrm>
                    <a:off x="3922200" y="337428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4" name="Group 18"/>
                  <p:cNvGrpSpPr/>
                  <p:nvPr/>
                </p:nvGrpSpPr>
                <p:grpSpPr>
                  <a:xfrm>
                    <a:off x="2045520" y="3287880"/>
                    <a:ext cx="2399400" cy="1285200"/>
                    <a:chOff x="2045520" y="3287880"/>
                    <a:chExt cx="2399400" cy="1285200"/>
                  </a:xfrm>
                </p:grpSpPr>
                <p:sp>
                  <p:nvSpPr>
                    <p:cNvPr id="2025" name="TextBox 5"/>
                    <p:cNvSpPr/>
                    <p:nvPr/>
                  </p:nvSpPr>
                  <p:spPr>
                    <a:xfrm>
                      <a:off x="3264480" y="356760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TextBox 6"/>
                    <p:cNvSpPr/>
                    <p:nvPr/>
                  </p:nvSpPr>
                  <p:spPr>
                    <a:xfrm>
                      <a:off x="2045520" y="39916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TextBox 9"/>
                    <p:cNvSpPr/>
                    <p:nvPr/>
                  </p:nvSpPr>
                  <p:spPr>
                    <a:xfrm>
                      <a:off x="4061520" y="32878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8" name="Straight Connector 30"/>
              <p:cNvSpPr/>
              <p:nvPr/>
            </p:nvSpPr>
            <p:spPr>
              <a:xfrm>
                <a:off x="2431800" y="2552760"/>
                <a:ext cx="760320" cy="1052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Straight Connector 31"/>
              <p:cNvSpPr/>
              <p:nvPr/>
            </p:nvSpPr>
            <p:spPr>
              <a:xfrm>
                <a:off x="2549520" y="2378160"/>
                <a:ext cx="1563840" cy="11509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Box 27"/>
              <p:cNvSpPr/>
              <p:nvPr/>
            </p:nvSpPr>
            <p:spPr>
              <a:xfrm>
                <a:off x="1908000" y="2108160"/>
                <a:ext cx="659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i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1" name="Group 73"/>
          <p:cNvGrpSpPr/>
          <p:nvPr/>
        </p:nvGrpSpPr>
        <p:grpSpPr>
          <a:xfrm>
            <a:off x="4932360" y="2490840"/>
            <a:ext cx="950760" cy="3103560"/>
            <a:chOff x="4932360" y="2490840"/>
            <a:chExt cx="950760" cy="3103560"/>
          </a:xfrm>
        </p:grpSpPr>
        <p:sp>
          <p:nvSpPr>
            <p:cNvPr id="2032" name="Freeform 66"/>
            <p:cNvSpPr/>
            <p:nvPr/>
          </p:nvSpPr>
          <p:spPr>
            <a:xfrm>
              <a:off x="5208480" y="24908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67"/>
            <p:cNvSpPr/>
            <p:nvPr/>
          </p:nvSpPr>
          <p:spPr>
            <a:xfrm>
              <a:off x="4932360" y="37022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68"/>
            <p:cNvSpPr/>
            <p:nvPr/>
          </p:nvSpPr>
          <p:spPr>
            <a:xfrm>
              <a:off x="4960800" y="4843440"/>
              <a:ext cx="725400" cy="750960"/>
            </a:xfrm>
            <a:custGeom>
              <a:avLst/>
              <a:gdLst/>
              <a:ahLst/>
              <a:rect l="l" t="t" r="r" b="b"/>
              <a:pathLst>
                <a:path w="725646" h="750162">
                  <a:moveTo>
                    <a:pt x="509450" y="0"/>
                  </a:moveTo>
                  <a:cubicBezTo>
                    <a:pt x="805542" y="375557"/>
                    <a:pt x="738050" y="424541"/>
                    <a:pt x="653142" y="548638"/>
                  </a:cubicBezTo>
                  <a:cubicBezTo>
                    <a:pt x="568234" y="672735"/>
                    <a:pt x="419643" y="775606"/>
                    <a:pt x="0" y="744582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Freeform 69"/>
          <p:cNvSpPr/>
          <p:nvPr/>
        </p:nvSpPr>
        <p:spPr>
          <a:xfrm>
            <a:off x="3556080" y="3952800"/>
            <a:ext cx="587160" cy="67968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triangle" w="med"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6" name="Group 76"/>
          <p:cNvGrpSpPr/>
          <p:nvPr/>
        </p:nvGrpSpPr>
        <p:grpSpPr>
          <a:xfrm>
            <a:off x="1455480" y="3567240"/>
            <a:ext cx="780840" cy="1709640"/>
            <a:chOff x="1455480" y="3567240"/>
            <a:chExt cx="780840" cy="1709640"/>
          </a:xfrm>
        </p:grpSpPr>
        <p:sp>
          <p:nvSpPr>
            <p:cNvPr id="2037" name="Freeform 70"/>
            <p:cNvSpPr/>
            <p:nvPr/>
          </p:nvSpPr>
          <p:spPr>
            <a:xfrm flipH="1">
              <a:off x="1455120" y="459756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71"/>
            <p:cNvSpPr/>
            <p:nvPr/>
          </p:nvSpPr>
          <p:spPr>
            <a:xfrm flipH="1">
              <a:off x="1650240" y="356724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arrow" w="med"/>
              <a:tailEnd len="med" type="arrow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9" name="Freeform 72"/>
          <p:cNvSpPr/>
          <p:nvPr/>
        </p:nvSpPr>
        <p:spPr>
          <a:xfrm flipH="1">
            <a:off x="771480" y="5156280"/>
            <a:ext cx="587520" cy="67932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arrow" w="med"/>
            <a:tailEnd len="med" type="arrow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0" name="Group 80"/>
          <p:cNvGrpSpPr/>
          <p:nvPr/>
        </p:nvGrpSpPr>
        <p:grpSpPr>
          <a:xfrm>
            <a:off x="3498120" y="1967760"/>
            <a:ext cx="5112360" cy="3350160"/>
            <a:chOff x="3498120" y="1967760"/>
            <a:chExt cx="5112360" cy="3350160"/>
          </a:xfrm>
        </p:grpSpPr>
        <p:sp>
          <p:nvSpPr>
            <p:cNvPr id="2041" name="Freeform 78"/>
            <p:cNvSpPr/>
            <p:nvPr/>
          </p:nvSpPr>
          <p:spPr>
            <a:xfrm rot="19320000">
              <a:off x="3644640" y="2076120"/>
              <a:ext cx="58716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TextBox 79"/>
            <p:cNvSpPr/>
            <p:nvPr/>
          </p:nvSpPr>
          <p:spPr>
            <a:xfrm>
              <a:off x="6172200" y="46753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e46c0a"/>
                </a:buClr>
                <a:buFont typeface="Calibri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Country to cou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barriers to spillo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3" name="TextBox 81"/>
          <p:cNvSpPr/>
          <p:nvPr/>
        </p:nvSpPr>
        <p:spPr>
          <a:xfrm>
            <a:off x="338400" y="282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 Monitoring and Reporting S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Group 83"/>
          <p:cNvGrpSpPr/>
          <p:nvPr/>
        </p:nvGrpSpPr>
        <p:grpSpPr>
          <a:xfrm>
            <a:off x="5529240" y="287280"/>
            <a:ext cx="3538440" cy="4443480"/>
            <a:chOff x="5529240" y="287280"/>
            <a:chExt cx="3538440" cy="4443480"/>
          </a:xfrm>
        </p:grpSpPr>
        <p:grpSp>
          <p:nvGrpSpPr>
            <p:cNvPr id="2045" name="Group 77"/>
            <p:cNvGrpSpPr/>
            <p:nvPr/>
          </p:nvGrpSpPr>
          <p:grpSpPr>
            <a:xfrm>
              <a:off x="6019200" y="1742760"/>
              <a:ext cx="3048480" cy="2988000"/>
              <a:chOff x="6019200" y="1742760"/>
              <a:chExt cx="3048480" cy="2988000"/>
            </a:xfrm>
          </p:grpSpPr>
          <p:sp>
            <p:nvSpPr>
              <p:cNvPr id="2046" name="TextBox 74"/>
              <p:cNvSpPr/>
              <p:nvPr/>
            </p:nvSpPr>
            <p:spPr>
              <a:xfrm>
                <a:off x="6019200" y="1742760"/>
                <a:ext cx="289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Fostering Spillover by Desig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TextBox 75"/>
              <p:cNvSpPr/>
              <p:nvPr/>
            </p:nvSpPr>
            <p:spPr>
              <a:xfrm>
                <a:off x="6171480" y="2167920"/>
                <a:ext cx="28962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sites to local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to non-implementation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ub-systems to (sub-)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ystems to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ites to si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8" name="TextBox 82"/>
            <p:cNvSpPr/>
            <p:nvPr/>
          </p:nvSpPr>
          <p:spPr>
            <a:xfrm>
              <a:off x="5529240" y="287280"/>
              <a:ext cx="279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alibri"/>
                </a:rPr>
                <a:t>&amp; Spillover Nee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neation and characterization (typologies?) of target farming system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lies on the fusion of spatially-explicit agricultural production, environmental, and farm/household data, and a conceptual model of impact pathways/go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 Technology/Intervention Inventor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haracterized inventory of the nature of the individual and integrated farming system components whose adoption and impacts is being evaluated. Includes characterization of spillover 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sive Modeling of Projected Change (with and w/o interventions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roductivity and income change, land, labour (sex differentiated) and wate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tribution assessmen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to the ability to measure and model change in indicators is the need (with additional information/assumptions) to assess attribution of changes to an agreed level of specif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1" name="Group 71"/>
          <p:cNvGrpSpPr/>
          <p:nvPr/>
        </p:nvGrpSpPr>
        <p:grpSpPr>
          <a:xfrm>
            <a:off x="492840" y="4594320"/>
            <a:ext cx="7230960" cy="2165400"/>
            <a:chOff x="492840" y="4594320"/>
            <a:chExt cx="7230960" cy="2165400"/>
          </a:xfrm>
        </p:grpSpPr>
        <p:grpSp>
          <p:nvGrpSpPr>
            <p:cNvPr id="2052" name="Group 63"/>
            <p:cNvGrpSpPr/>
            <p:nvPr/>
          </p:nvGrpSpPr>
          <p:grpSpPr>
            <a:xfrm>
              <a:off x="833760" y="4594320"/>
              <a:ext cx="6814440" cy="2143800"/>
              <a:chOff x="833760" y="4594320"/>
              <a:chExt cx="6814440" cy="2143800"/>
            </a:xfrm>
          </p:grpSpPr>
          <p:grpSp>
            <p:nvGrpSpPr>
              <p:cNvPr id="2053" name="Group 57"/>
              <p:cNvGrpSpPr/>
              <p:nvPr/>
            </p:nvGrpSpPr>
            <p:grpSpPr>
              <a:xfrm>
                <a:off x="833760" y="4594320"/>
                <a:ext cx="6814440" cy="2143800"/>
                <a:chOff x="833760" y="4594320"/>
                <a:chExt cx="6814440" cy="2143800"/>
              </a:xfrm>
            </p:grpSpPr>
            <p:grpSp>
              <p:nvGrpSpPr>
                <p:cNvPr id="2054" name="Group 43"/>
                <p:cNvGrpSpPr/>
                <p:nvPr/>
              </p:nvGrpSpPr>
              <p:grpSpPr>
                <a:xfrm>
                  <a:off x="1612440" y="4877280"/>
                  <a:ext cx="6035760" cy="1434960"/>
                  <a:chOff x="1612440" y="4877280"/>
                  <a:chExt cx="6035760" cy="1434960"/>
                </a:xfrm>
              </p:grpSpPr>
              <p:sp>
                <p:nvSpPr>
                  <p:cNvPr id="2055" name="Freeform 33"/>
                  <p:cNvSpPr/>
                  <p:nvPr/>
                </p:nvSpPr>
                <p:spPr>
                  <a:xfrm>
                    <a:off x="1652040" y="4958280"/>
                    <a:ext cx="5794560" cy="13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580593" y="1141784"/>
                          <a:pt x="817581" y="1025435"/>
                        </a:cubicBezTo>
                        <a:cubicBezTo>
                          <a:pt x="1054569" y="909086"/>
                          <a:pt x="1198072" y="731868"/>
                          <a:pt x="1421930" y="619717"/>
                        </a:cubicBezTo>
                        <a:cubicBezTo>
                          <a:pt x="1645788" y="507566"/>
                          <a:pt x="1919610" y="404673"/>
                          <a:pt x="2160728" y="352531"/>
                        </a:cubicBezTo>
                        <a:cubicBezTo>
                          <a:pt x="2401846" y="300389"/>
                          <a:pt x="2594590" y="348455"/>
                          <a:pt x="2868637" y="306868"/>
                        </a:cubicBezTo>
                        <a:cubicBezTo>
                          <a:pt x="3142684" y="265281"/>
                          <a:pt x="3317168" y="154154"/>
                          <a:pt x="3805009" y="103009"/>
                        </a:cubicBezTo>
                        <a:cubicBezTo>
                          <a:pt x="4292850" y="51864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Straight Connector 34"/>
                  <p:cNvSpPr/>
                  <p:nvPr/>
                </p:nvSpPr>
                <p:spPr>
                  <a:xfrm>
                    <a:off x="5456520" y="5061600"/>
                    <a:ext cx="1990080" cy="123336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Isosceles Triangle 35"/>
                  <p:cNvSpPr/>
                  <p:nvPr/>
                </p:nvSpPr>
                <p:spPr>
                  <a:xfrm>
                    <a:off x="1612440" y="4988520"/>
                    <a:ext cx="5727960" cy="131760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Rectangle 36"/>
                  <p:cNvSpPr/>
                  <p:nvPr/>
                </p:nvSpPr>
                <p:spPr>
                  <a:xfrm>
                    <a:off x="4724640" y="4877280"/>
                    <a:ext cx="2923560" cy="1434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Freeform 37"/>
                  <p:cNvSpPr/>
                  <p:nvPr/>
                </p:nvSpPr>
                <p:spPr>
                  <a:xfrm>
                    <a:off x="4712040" y="5123520"/>
                    <a:ext cx="2672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73658" h="108777">
                        <a:moveTo>
                          <a:pt x="0" y="107240"/>
                        </a:moveTo>
                        <a:cubicBezTo>
                          <a:pt x="297410" y="63706"/>
                          <a:pt x="688771" y="14516"/>
                          <a:pt x="996494" y="2780"/>
                        </a:cubicBezTo>
                        <a:cubicBezTo>
                          <a:pt x="1304217" y="-8956"/>
                          <a:pt x="1566811" y="19155"/>
                          <a:pt x="1846338" y="36821"/>
                        </a:cubicBezTo>
                        <a:lnTo>
                          <a:pt x="2673658" y="108777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Straight Connector 38"/>
                  <p:cNvSpPr/>
                  <p:nvPr/>
                </p:nvSpPr>
                <p:spPr>
                  <a:xfrm>
                    <a:off x="1652040" y="6304320"/>
                    <a:ext cx="579456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1" name="Straight Connector 47"/>
                <p:cNvSpPr/>
                <p:nvPr/>
              </p:nvSpPr>
              <p:spPr>
                <a:xfrm>
                  <a:off x="833760" y="6314400"/>
                  <a:ext cx="289548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TextBox 52"/>
                <p:cNvSpPr/>
                <p:nvPr/>
              </p:nvSpPr>
              <p:spPr>
                <a:xfrm>
                  <a:off x="4419000" y="636984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Straight Connector 55"/>
                <p:cNvSpPr/>
                <p:nvPr/>
              </p:nvSpPr>
              <p:spPr>
                <a:xfrm>
                  <a:off x="851040" y="4594320"/>
                  <a:ext cx="4680" cy="17456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Straight Connector 62"/>
              <p:cNvSpPr/>
              <p:nvPr/>
            </p:nvSpPr>
            <p:spPr>
              <a:xfrm>
                <a:off x="4741920" y="5005440"/>
                <a:ext cx="0" cy="12877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5" name="TextBox 66"/>
            <p:cNvSpPr/>
            <p:nvPr/>
          </p:nvSpPr>
          <p:spPr>
            <a:xfrm>
              <a:off x="707976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TextBox 68"/>
            <p:cNvSpPr/>
            <p:nvPr/>
          </p:nvSpPr>
          <p:spPr>
            <a:xfrm>
              <a:off x="49284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Group 69"/>
          <p:cNvGrpSpPr/>
          <p:nvPr/>
        </p:nvGrpSpPr>
        <p:grpSpPr>
          <a:xfrm>
            <a:off x="542160" y="1036800"/>
            <a:ext cx="7181640" cy="2254320"/>
            <a:chOff x="542160" y="1036800"/>
            <a:chExt cx="7181640" cy="2254320"/>
          </a:xfrm>
        </p:grpSpPr>
        <p:grpSp>
          <p:nvGrpSpPr>
            <p:cNvPr id="2068" name="Group 39"/>
            <p:cNvGrpSpPr/>
            <p:nvPr/>
          </p:nvGrpSpPr>
          <p:grpSpPr>
            <a:xfrm>
              <a:off x="1626840" y="1353960"/>
              <a:ext cx="6036480" cy="1434240"/>
              <a:chOff x="1626840" y="1353960"/>
              <a:chExt cx="6036480" cy="1434240"/>
            </a:xfrm>
          </p:grpSpPr>
          <p:sp>
            <p:nvSpPr>
              <p:cNvPr id="2069" name="Freeform 3"/>
              <p:cNvSpPr/>
              <p:nvPr/>
            </p:nvSpPr>
            <p:spPr>
              <a:xfrm>
                <a:off x="1666440" y="1434960"/>
                <a:ext cx="5795280" cy="1316880"/>
              </a:xfrm>
              <a:custGeom>
                <a:avLst/>
                <a:gdLst/>
                <a:ahLst/>
                <a:rect l="l" t="t" r="r" b="b"/>
                <a:pathLst>
                  <a:path w="5795682" h="1317812">
                    <a:moveTo>
                      <a:pt x="0" y="1317812"/>
                    </a:moveTo>
                    <a:cubicBezTo>
                      <a:pt x="254373" y="1285315"/>
                      <a:pt x="443433" y="1252818"/>
                      <a:pt x="660827" y="1143000"/>
                    </a:cubicBezTo>
                    <a:cubicBezTo>
                      <a:pt x="878221" y="1033182"/>
                      <a:pt x="1015192" y="797182"/>
                      <a:pt x="1304364" y="658906"/>
                    </a:cubicBezTo>
                    <a:cubicBezTo>
                      <a:pt x="1593536" y="520630"/>
                      <a:pt x="1979086" y="405991"/>
                      <a:pt x="2395860" y="313342"/>
                    </a:cubicBezTo>
                    <a:cubicBezTo>
                      <a:pt x="2812634" y="220693"/>
                      <a:pt x="3238372" y="155233"/>
                      <a:pt x="3805009" y="103009"/>
                    </a:cubicBezTo>
                    <a:cubicBezTo>
                      <a:pt x="4371646" y="50785"/>
                      <a:pt x="5132124" y="34336"/>
                      <a:pt x="5795682" y="0"/>
                    </a:cubicBez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Straight Connector 9"/>
              <p:cNvSpPr/>
              <p:nvPr/>
            </p:nvSpPr>
            <p:spPr>
              <a:xfrm>
                <a:off x="7461720" y="1434960"/>
                <a:ext cx="0" cy="13359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Isosceles Triangle 10"/>
              <p:cNvSpPr/>
              <p:nvPr/>
            </p:nvSpPr>
            <p:spPr>
              <a:xfrm>
                <a:off x="1626840" y="1464840"/>
                <a:ext cx="5728680" cy="1316880"/>
              </a:xfrm>
              <a:prstGeom prst="triangle">
                <a:avLst>
                  <a:gd name="adj" fmla="val 10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25"/>
              <p:cNvSpPr/>
              <p:nvPr/>
            </p:nvSpPr>
            <p:spPr>
              <a:xfrm>
                <a:off x="3395520" y="1353960"/>
                <a:ext cx="4267800" cy="143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20"/>
              <p:cNvSpPr/>
              <p:nvPr/>
            </p:nvSpPr>
            <p:spPr>
              <a:xfrm>
                <a:off x="3381120" y="1434960"/>
                <a:ext cx="4031280" cy="493920"/>
              </a:xfrm>
              <a:custGeom>
                <a:avLst/>
                <a:gdLst/>
                <a:ahLst/>
                <a:rect l="l" t="t" r="r" b="b"/>
                <a:pathLst>
                  <a:path w="4032196" h="494852">
                    <a:moveTo>
                      <a:pt x="0" y="494852"/>
                    </a:moveTo>
                    <a:cubicBezTo>
                      <a:pt x="31536" y="477483"/>
                      <a:pt x="354169" y="388491"/>
                      <a:pt x="386506" y="372291"/>
                    </a:cubicBezTo>
                    <a:cubicBezTo>
                      <a:pt x="418843" y="356091"/>
                      <a:pt x="153042" y="407475"/>
                      <a:pt x="194020" y="397650"/>
                    </a:cubicBezTo>
                    <a:cubicBezTo>
                      <a:pt x="234998" y="387825"/>
                      <a:pt x="324457" y="362449"/>
                      <a:pt x="632374" y="313342"/>
                    </a:cubicBezTo>
                    <a:cubicBezTo>
                      <a:pt x="940291" y="264235"/>
                      <a:pt x="1474886" y="155233"/>
                      <a:pt x="2041523" y="103009"/>
                    </a:cubicBezTo>
                    <a:cubicBezTo>
                      <a:pt x="2608160" y="50785"/>
                      <a:pt x="3368638" y="34336"/>
                      <a:pt x="4032196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Straight Connector 26"/>
              <p:cNvSpPr/>
              <p:nvPr/>
            </p:nvSpPr>
            <p:spPr>
              <a:xfrm>
                <a:off x="1666440" y="2780280"/>
                <a:ext cx="5795280" cy="0"/>
              </a:xfrm>
              <a:prstGeom prst="line">
                <a:avLst/>
              </a:prstGeom>
              <a:ln w="2232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5" name="Straight Connector 41"/>
            <p:cNvSpPr/>
            <p:nvPr/>
          </p:nvSpPr>
          <p:spPr>
            <a:xfrm>
              <a:off x="833400" y="1036800"/>
              <a:ext cx="4680" cy="174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Straight Connector 45"/>
            <p:cNvSpPr/>
            <p:nvPr/>
          </p:nvSpPr>
          <p:spPr>
            <a:xfrm>
              <a:off x="838080" y="2789280"/>
              <a:ext cx="2895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TextBox 48"/>
            <p:cNvSpPr/>
            <p:nvPr/>
          </p:nvSpPr>
          <p:spPr>
            <a:xfrm>
              <a:off x="542160" y="2895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TextBox 49"/>
            <p:cNvSpPr/>
            <p:nvPr/>
          </p:nvSpPr>
          <p:spPr>
            <a:xfrm>
              <a:off x="3085200" y="2922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Straight Connector 59"/>
            <p:cNvSpPr/>
            <p:nvPr/>
          </p:nvSpPr>
          <p:spPr>
            <a:xfrm>
              <a:off x="3378240" y="1465200"/>
              <a:ext cx="0" cy="1287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TextBox 64"/>
            <p:cNvSpPr/>
            <p:nvPr/>
          </p:nvSpPr>
          <p:spPr>
            <a:xfrm>
              <a:off x="7079760" y="290232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Group 70"/>
          <p:cNvGrpSpPr/>
          <p:nvPr/>
        </p:nvGrpSpPr>
        <p:grpSpPr>
          <a:xfrm>
            <a:off x="511920" y="2814480"/>
            <a:ext cx="7211880" cy="2246760"/>
            <a:chOff x="511920" y="2814480"/>
            <a:chExt cx="7211880" cy="2246760"/>
          </a:xfrm>
        </p:grpSpPr>
        <p:grpSp>
          <p:nvGrpSpPr>
            <p:cNvPr id="2082" name="Group 61"/>
            <p:cNvGrpSpPr/>
            <p:nvPr/>
          </p:nvGrpSpPr>
          <p:grpSpPr>
            <a:xfrm>
              <a:off x="834120" y="2814480"/>
              <a:ext cx="6821640" cy="2245320"/>
              <a:chOff x="834120" y="2814480"/>
              <a:chExt cx="6821640" cy="2245320"/>
            </a:xfrm>
          </p:grpSpPr>
          <p:grpSp>
            <p:nvGrpSpPr>
              <p:cNvPr id="2083" name="Group 56"/>
              <p:cNvGrpSpPr/>
              <p:nvPr/>
            </p:nvGrpSpPr>
            <p:grpSpPr>
              <a:xfrm>
                <a:off x="834120" y="2814480"/>
                <a:ext cx="6821640" cy="2245320"/>
                <a:chOff x="834120" y="2814480"/>
                <a:chExt cx="6821640" cy="2245320"/>
              </a:xfrm>
            </p:grpSpPr>
            <p:sp>
              <p:nvSpPr>
                <p:cNvPr id="2084" name="Straight Connector 54"/>
                <p:cNvSpPr/>
                <p:nvPr/>
              </p:nvSpPr>
              <p:spPr>
                <a:xfrm>
                  <a:off x="842040" y="2814480"/>
                  <a:ext cx="4680" cy="174672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5" name="Group 42"/>
                <p:cNvGrpSpPr/>
                <p:nvPr/>
              </p:nvGrpSpPr>
              <p:grpSpPr>
                <a:xfrm>
                  <a:off x="1619280" y="3154320"/>
                  <a:ext cx="6036480" cy="1435680"/>
                  <a:chOff x="1619280" y="3154320"/>
                  <a:chExt cx="6036480" cy="1435680"/>
                </a:xfrm>
              </p:grpSpPr>
              <p:sp>
                <p:nvSpPr>
                  <p:cNvPr id="2086" name="Freeform 27"/>
                  <p:cNvSpPr/>
                  <p:nvPr/>
                </p:nvSpPr>
                <p:spPr>
                  <a:xfrm>
                    <a:off x="1658880" y="3235320"/>
                    <a:ext cx="5795280" cy="1318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421662" y="1235400"/>
                          <a:pt x="660827" y="1143000"/>
                        </a:cubicBezTo>
                        <a:cubicBezTo>
                          <a:pt x="899992" y="1050600"/>
                          <a:pt x="1145821" y="901685"/>
                          <a:pt x="1434993" y="763409"/>
                        </a:cubicBezTo>
                        <a:cubicBezTo>
                          <a:pt x="1724165" y="625133"/>
                          <a:pt x="2000857" y="423409"/>
                          <a:pt x="2395860" y="313342"/>
                        </a:cubicBezTo>
                        <a:cubicBezTo>
                          <a:pt x="2790863" y="203275"/>
                          <a:pt x="3238372" y="155233"/>
                          <a:pt x="3805009" y="103009"/>
                        </a:cubicBezTo>
                        <a:cubicBezTo>
                          <a:pt x="4371646" y="50785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Straight Connector 28"/>
                  <p:cNvSpPr/>
                  <p:nvPr/>
                </p:nvSpPr>
                <p:spPr>
                  <a:xfrm>
                    <a:off x="7454160" y="3235320"/>
                    <a:ext cx="0" cy="133740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Isosceles Triangle 29"/>
                  <p:cNvSpPr/>
                  <p:nvPr/>
                </p:nvSpPr>
                <p:spPr>
                  <a:xfrm>
                    <a:off x="1619280" y="3265200"/>
                    <a:ext cx="5728680" cy="131832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Rectangle 30"/>
                  <p:cNvSpPr/>
                  <p:nvPr/>
                </p:nvSpPr>
                <p:spPr>
                  <a:xfrm>
                    <a:off x="3936240" y="3154320"/>
                    <a:ext cx="3719520" cy="143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Freeform 31"/>
                  <p:cNvSpPr/>
                  <p:nvPr/>
                </p:nvSpPr>
                <p:spPr>
                  <a:xfrm>
                    <a:off x="3987000" y="3235320"/>
                    <a:ext cx="366084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18241" h="311972">
                        <a:moveTo>
                          <a:pt x="0" y="311972"/>
                        </a:moveTo>
                        <a:cubicBezTo>
                          <a:pt x="40421" y="291722"/>
                          <a:pt x="321852" y="236534"/>
                          <a:pt x="559780" y="201707"/>
                        </a:cubicBezTo>
                        <a:cubicBezTo>
                          <a:pt x="797708" y="166880"/>
                          <a:pt x="951158" y="136627"/>
                          <a:pt x="1427568" y="103009"/>
                        </a:cubicBezTo>
                        <a:cubicBezTo>
                          <a:pt x="1903978" y="69391"/>
                          <a:pt x="2754683" y="34336"/>
                          <a:pt x="3418241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Straight Connector 32"/>
                  <p:cNvSpPr/>
                  <p:nvPr/>
                </p:nvSpPr>
                <p:spPr>
                  <a:xfrm>
                    <a:off x="1658880" y="4582080"/>
                    <a:ext cx="579528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2" name="Straight Connector 46"/>
                <p:cNvSpPr/>
                <p:nvPr/>
              </p:nvSpPr>
              <p:spPr>
                <a:xfrm>
                  <a:off x="834120" y="4589640"/>
                  <a:ext cx="289440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TextBox 51"/>
                <p:cNvSpPr/>
                <p:nvPr/>
              </p:nvSpPr>
              <p:spPr>
                <a:xfrm>
                  <a:off x="3564360" y="469152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4" name="Straight Connector 60"/>
              <p:cNvSpPr/>
              <p:nvPr/>
            </p:nvSpPr>
            <p:spPr>
              <a:xfrm>
                <a:off x="3949560" y="3292200"/>
                <a:ext cx="0" cy="1289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5" name="TextBox 67"/>
            <p:cNvSpPr/>
            <p:nvPr/>
          </p:nvSpPr>
          <p:spPr>
            <a:xfrm>
              <a:off x="511920" y="46832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Box 65"/>
            <p:cNvSpPr/>
            <p:nvPr/>
          </p:nvSpPr>
          <p:spPr>
            <a:xfrm>
              <a:off x="7079760" y="469296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TextBox 72"/>
          <p:cNvSpPr/>
          <p:nvPr/>
        </p:nvSpPr>
        <p:spPr>
          <a:xfrm>
            <a:off x="1102680" y="34308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nual Evaluation of Past and Projected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Box 73"/>
          <p:cNvSpPr/>
          <p:nvPr/>
        </p:nvSpPr>
        <p:spPr>
          <a:xfrm>
            <a:off x="838080" y="103680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rease in productivity or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. Daily Temperature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0" name="Content Placeholder 8" descr="temperatur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0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0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0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4" name="Straight Connector 6"/>
              <p:cNvCxnSpPr>
                <a:stCxn id="210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0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Box 2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infall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0" name="Content Placeholder 8" descr="prep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1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1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1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4" name="Straight Connector 6"/>
              <p:cNvCxnSpPr>
                <a:stCxn id="211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1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Box 11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an 2001-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0" name="Content Placeholder 8" descr="NDVI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2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2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2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4" name="Straight Connector 6"/>
              <p:cNvCxnSpPr>
                <a:stCxn id="212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2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9" name="Content Placeholder 8" descr="NDVI_std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0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31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32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3" name="Straight Connector 6"/>
              <p:cNvCxnSpPr>
                <a:stCxn id="2132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34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D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8" name="Content Placeholder 8" descr="popden_africover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4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4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42" name="Straight Connector 6"/>
              <p:cNvCxnSpPr>
                <a:stCxn id="214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4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4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Box 2"/>
          <p:cNvSpPr/>
          <p:nvPr/>
        </p:nvSpPr>
        <p:spPr>
          <a:xfrm>
            <a:off x="464040" y="6440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riPop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ime to Towns &gt;50K Pop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8" name="Content Placeholder 13" descr="traveltim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4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5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5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52" name="Straight Connector 6"/>
              <p:cNvCxnSpPr>
                <a:stCxn id="215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5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TextBox 8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Box 2"/>
          <p:cNvSpPr/>
          <p:nvPr/>
        </p:nvSpPr>
        <p:spPr>
          <a:xfrm>
            <a:off x="302760" y="64753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vestChoi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761760" y="1371600"/>
            <a:ext cx="835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M&amp;E Guiding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on SI Program Targ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Reporting Sc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&amp;E Data and Analysis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pland Int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8" name="Content Placeholder 14" descr="Cropland density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59" name="Group 12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6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61" name="TextBox 4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2" name="Straight Connector 6"/>
              <p:cNvCxnSpPr>
                <a:stCxn id="216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63" name="Straight Connector 10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4" name="TextBox 2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Box 3"/>
          <p:cNvSpPr/>
          <p:nvPr/>
        </p:nvSpPr>
        <p:spPr>
          <a:xfrm>
            <a:off x="334080" y="64562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mankutty et a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hold Enterprise Cho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8" name="Picture 4" descr="maize.png"/>
          <p:cNvPicPr/>
          <p:nvPr/>
        </p:nvPicPr>
        <p:blipFill>
          <a:blip r:embed="rId1"/>
          <a:stretch/>
        </p:blipFill>
        <p:spPr>
          <a:xfrm>
            <a:off x="1231920" y="1676520"/>
            <a:ext cx="2825640" cy="365760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5" descr="rice.png"/>
          <p:cNvPicPr/>
          <p:nvPr/>
        </p:nvPicPr>
        <p:blipFill>
          <a:blip r:embed="rId2"/>
          <a:stretch/>
        </p:blipFill>
        <p:spPr>
          <a:xfrm>
            <a:off x="3998880" y="1676520"/>
            <a:ext cx="2616120" cy="365760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2" descr=""/>
          <p:cNvPicPr/>
          <p:nvPr/>
        </p:nvPicPr>
        <p:blipFill>
          <a:blip r:embed="rId3"/>
          <a:srcRect l="0" t="8532" r="0" b="0"/>
          <a:stretch/>
        </p:blipFill>
        <p:spPr>
          <a:xfrm>
            <a:off x="-457200" y="236232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3" descr="sorghum.png"/>
          <p:cNvPicPr/>
          <p:nvPr/>
        </p:nvPicPr>
        <p:blipFill>
          <a:blip r:embed="rId4"/>
          <a:stretch/>
        </p:blipFill>
        <p:spPr>
          <a:xfrm>
            <a:off x="6602400" y="1676520"/>
            <a:ext cx="2541600" cy="3657600"/>
          </a:xfrm>
          <a:prstGeom prst="rect">
            <a:avLst/>
          </a:prstGeom>
          <a:ln w="0">
            <a:noFill/>
          </a:ln>
        </p:spPr>
      </p:pic>
      <p:sp>
        <p:nvSpPr>
          <p:cNvPr id="2172" name="TextBox 7"/>
          <p:cNvSpPr/>
          <p:nvPr/>
        </p:nvSpPr>
        <p:spPr>
          <a:xfrm>
            <a:off x="1646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z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Box 8"/>
          <p:cNvSpPr/>
          <p:nvPr/>
        </p:nvSpPr>
        <p:spPr>
          <a:xfrm>
            <a:off x="4273560" y="54212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c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Box 9"/>
          <p:cNvSpPr/>
          <p:nvPr/>
        </p:nvSpPr>
        <p:spPr>
          <a:xfrm>
            <a:off x="6602400" y="541008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rghum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TextBox 2"/>
          <p:cNvSpPr/>
          <p:nvPr/>
        </p:nvSpPr>
        <p:spPr>
          <a:xfrm>
            <a:off x="205920" y="185904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TextBox 6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7" name="Content Placeholder 3" descr="cattlepng.png"/>
          <p:cNvPicPr/>
          <p:nvPr/>
        </p:nvPicPr>
        <p:blipFill>
          <a:blip r:embed="rId1"/>
          <a:stretch/>
        </p:blipFill>
        <p:spPr>
          <a:xfrm>
            <a:off x="3124080" y="2057400"/>
            <a:ext cx="2826000" cy="36576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" descr=""/>
          <p:cNvPicPr/>
          <p:nvPr/>
        </p:nvPicPr>
        <p:blipFill>
          <a:blip r:embed="rId2"/>
          <a:srcRect l="20613" t="14233" r="20409" b="0"/>
          <a:stretch/>
        </p:blipFill>
        <p:spPr>
          <a:xfrm>
            <a:off x="380880" y="2819520"/>
            <a:ext cx="2311560" cy="1569960"/>
          </a:xfrm>
          <a:prstGeom prst="rect">
            <a:avLst/>
          </a:prstGeom>
          <a:ln w="0">
            <a:noFill/>
          </a:ln>
        </p:spPr>
      </p:pic>
      <p:sp>
        <p:nvSpPr>
          <p:cNvPr id="2179" name="TextBox 5"/>
          <p:cNvSpPr/>
          <p:nvPr/>
        </p:nvSpPr>
        <p:spPr>
          <a:xfrm>
            <a:off x="3135240" y="5715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useholds Owning C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Household Enterprise Choices (cont.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Box 7"/>
          <p:cNvSpPr/>
          <p:nvPr/>
        </p:nvSpPr>
        <p:spPr>
          <a:xfrm>
            <a:off x="695160" y="232236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Box 8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3" name=""/>
          <p:cNvGraphicFramePr/>
          <p:nvPr/>
        </p:nvGraphicFramePr>
        <p:xfrm>
          <a:off x="152280" y="1905120"/>
          <a:ext cx="8686800" cy="3124080"/>
        </p:xfrm>
        <a:graphic>
          <a:graphicData uri="http://schemas.openxmlformats.org/drawingml/2006/table">
            <a:tbl>
              <a:tblPr/>
              <a:tblGrid>
                <a:gridCol w="513000"/>
                <a:gridCol w="2090520"/>
                <a:gridCol w="577800"/>
                <a:gridCol w="73080"/>
                <a:gridCol w="2081160"/>
                <a:gridCol w="586080"/>
                <a:gridCol w="61920"/>
                <a:gridCol w="2079360"/>
                <a:gridCol w="623880"/>
              </a:tblGrid>
              <a:tr h="3632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Reg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Focus Distric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8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sorghum, 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nking of HH Crop Enterprises: Gh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5" name=""/>
          <p:cNvGraphicFramePr/>
          <p:nvPr/>
        </p:nvGraphicFramePr>
        <p:xfrm>
          <a:off x="380880" y="5257800"/>
          <a:ext cx="7772400" cy="838080"/>
        </p:xfrm>
        <a:graphic>
          <a:graphicData uri="http://schemas.openxmlformats.org/drawingml/2006/table">
            <a:tbl>
              <a:tblPr/>
              <a:tblGrid>
                <a:gridCol w="747720"/>
                <a:gridCol w="3044880"/>
                <a:gridCol w="841320"/>
                <a:gridCol w="106560"/>
                <a:gridCol w="3031920"/>
              </a:tblGrid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 from GLSS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 considered are maize, rice, millet, cassava, cocoa, cocoyam, beans, eggplant, sorghum, yam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lpalm, okra, oranges, pawpaw, pepper, pineapples, plantain, tomatoes, 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6" name="Picture 3" descr=""/>
          <p:cNvPicPr/>
          <p:nvPr/>
        </p:nvPicPr>
        <p:blipFill>
          <a:blip r:embed="rId1"/>
          <a:stretch/>
        </p:blipFill>
        <p:spPr>
          <a:xfrm>
            <a:off x="406440" y="380880"/>
            <a:ext cx="83566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7" name="Diagram 10" descr=""/>
          <p:cNvPicPr/>
          <p:nvPr/>
        </p:nvPicPr>
        <p:blipFill>
          <a:blip r:embed="rId1"/>
          <a:stretch/>
        </p:blipFill>
        <p:spPr>
          <a:xfrm>
            <a:off x="12600" y="920880"/>
            <a:ext cx="3522600" cy="2535120"/>
          </a:xfrm>
          <a:prstGeom prst="rect">
            <a:avLst/>
          </a:prstGeom>
          <a:ln w="0">
            <a:noFill/>
          </a:ln>
        </p:spPr>
      </p:pic>
      <p:pic>
        <p:nvPicPr>
          <p:cNvPr id="2188" name="Diagram 8" descr=""/>
          <p:cNvPicPr/>
          <p:nvPr/>
        </p:nvPicPr>
        <p:blipFill>
          <a:blip r:embed="rId2"/>
          <a:stretch/>
        </p:blipFill>
        <p:spPr>
          <a:xfrm>
            <a:off x="285840" y="3925800"/>
            <a:ext cx="2963880" cy="186552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2" descr="D:\Documents and Settings\JKOO\Desktop\Downloads\iStock\iStock_000005155468Illustra\thumbnail.jpg"/>
          <p:cNvPicPr/>
          <p:nvPr/>
        </p:nvPicPr>
        <p:blipFill>
          <a:blip r:embed="rId3"/>
          <a:stretch/>
        </p:blipFill>
        <p:spPr>
          <a:xfrm>
            <a:off x="2857680" y="1219320"/>
            <a:ext cx="2008080" cy="3805200"/>
          </a:xfrm>
          <a:prstGeom prst="rect">
            <a:avLst/>
          </a:prstGeom>
          <a:ln w="0">
            <a:noFill/>
          </a:ln>
        </p:spPr>
      </p:pic>
      <p:grpSp>
        <p:nvGrpSpPr>
          <p:cNvPr id="2190" name="Group 38"/>
          <p:cNvGrpSpPr/>
          <p:nvPr/>
        </p:nvGrpSpPr>
        <p:grpSpPr>
          <a:xfrm>
            <a:off x="4644720" y="2959200"/>
            <a:ext cx="2202120" cy="3927240"/>
            <a:chOff x="4644720" y="2959200"/>
            <a:chExt cx="2202120" cy="3927240"/>
          </a:xfrm>
        </p:grpSpPr>
        <p:pic>
          <p:nvPicPr>
            <p:cNvPr id="2191" name="Diagram 6" descr=""/>
            <p:cNvPicPr/>
            <p:nvPr/>
          </p:nvPicPr>
          <p:blipFill>
            <a:blip r:embed="rId4"/>
            <a:stretch/>
          </p:blipFill>
          <p:spPr>
            <a:xfrm>
              <a:off x="4734360" y="4471200"/>
              <a:ext cx="2112480" cy="24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Picture 5" descr="D:\Documents and Settings\JKOO\Local Settings\Temporary Internet Files\Content.IE5\VAIP9G55\MCj02802970000[1].wmf"/>
            <p:cNvPicPr/>
            <p:nvPr/>
          </p:nvPicPr>
          <p:blipFill>
            <a:blip r:embed="rId5">
              <a:lum bright="10000"/>
            </a:blip>
            <a:stretch/>
          </p:blipFill>
          <p:spPr>
            <a:xfrm flipH="1">
              <a:off x="4644720" y="2959200"/>
              <a:ext cx="1168200" cy="157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Diagram 7" descr=""/>
          <p:cNvPicPr/>
          <p:nvPr/>
        </p:nvPicPr>
        <p:blipFill>
          <a:blip r:embed="rId6"/>
          <a:stretch/>
        </p:blipFill>
        <p:spPr>
          <a:xfrm>
            <a:off x="2846520" y="5048280"/>
            <a:ext cx="1950840" cy="1809720"/>
          </a:xfrm>
          <a:prstGeom prst="rect">
            <a:avLst/>
          </a:prstGeom>
          <a:ln w="0">
            <a:noFill/>
          </a:ln>
        </p:spPr>
      </p:pic>
      <p:sp>
        <p:nvSpPr>
          <p:cNvPr id="2194" name="Rectangle 29"/>
          <p:cNvSpPr/>
          <p:nvPr/>
        </p:nvSpPr>
        <p:spPr>
          <a:xfrm>
            <a:off x="6199200" y="210960"/>
            <a:ext cx="2489040" cy="37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0"/>
          <p:cNvSpPr/>
          <p:nvPr/>
        </p:nvSpPr>
        <p:spPr>
          <a:xfrm>
            <a:off x="6351480" y="363600"/>
            <a:ext cx="2489400" cy="373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31"/>
          <p:cNvSpPr/>
          <p:nvPr/>
        </p:nvSpPr>
        <p:spPr>
          <a:xfrm>
            <a:off x="6504120" y="515880"/>
            <a:ext cx="2489040" cy="382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7" name=""/>
          <p:cNvGraphicFramePr/>
          <p:nvPr/>
        </p:nvGraphicFramePr>
        <p:xfrm>
          <a:off x="6593040" y="1409760"/>
          <a:ext cx="2361960" cy="285732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PUTS/INDIC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e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wering d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maturity d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es/stov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biomass y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, biomass, L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, C and H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bal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198" name="Group 18"/>
          <p:cNvGrpSpPr/>
          <p:nvPr/>
        </p:nvGrpSpPr>
        <p:grpSpPr>
          <a:xfrm>
            <a:off x="6613560" y="609480"/>
            <a:ext cx="2260440" cy="825480"/>
            <a:chOff x="6613560" y="609480"/>
            <a:chExt cx="2260440" cy="825480"/>
          </a:xfrm>
        </p:grpSpPr>
        <p:pic>
          <p:nvPicPr>
            <p:cNvPr id="2199" name="Picture 3" descr=""/>
            <p:cNvPicPr/>
            <p:nvPr/>
          </p:nvPicPr>
          <p:blipFill>
            <a:blip r:embed="rId7"/>
            <a:stretch/>
          </p:blipFill>
          <p:spPr>
            <a:xfrm>
              <a:off x="6613560" y="615240"/>
              <a:ext cx="1133280" cy="8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Picture 49" descr="mz_2000.png"/>
            <p:cNvPicPr/>
            <p:nvPr/>
          </p:nvPicPr>
          <p:blipFill>
            <a:blip r:embed="rId8"/>
            <a:stretch/>
          </p:blipFill>
          <p:spPr>
            <a:xfrm>
              <a:off x="7731360" y="609480"/>
              <a:ext cx="1142640" cy="82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1" name="Rectangle 2"/>
          <p:cNvSpPr/>
          <p:nvPr/>
        </p:nvSpPr>
        <p:spPr>
          <a:xfrm>
            <a:off x="304920" y="328680"/>
            <a:ext cx="5984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Cropping System Models as Mean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Tracking &amp; Forecast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Indicator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Box 17"/>
          <p:cNvSpPr/>
          <p:nvPr/>
        </p:nvSpPr>
        <p:spPr>
          <a:xfrm>
            <a:off x="240120" y="655020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Jawoo Koo (HarvestChoice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3" name="Picture 5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8997840" cy="4648320"/>
          </a:xfrm>
          <a:prstGeom prst="rect">
            <a:avLst/>
          </a:prstGeom>
          <a:ln w="0">
            <a:noFill/>
          </a:ln>
        </p:spPr>
      </p:pic>
      <p:sp>
        <p:nvSpPr>
          <p:cNvPr id="2204" name="TextBox 1"/>
          <p:cNvSpPr/>
          <p:nvPr/>
        </p:nvSpPr>
        <p:spPr>
          <a:xfrm>
            <a:off x="457200" y="252360"/>
            <a:ext cx="839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Responses by Region, Soil Response Class &amp; Management Intervention for Representative OPV and Hybrid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5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721120"/>
          </a:xfrm>
          <a:prstGeom prst="rect">
            <a:avLst/>
          </a:prstGeom>
          <a:ln w="0">
            <a:noFill/>
          </a:ln>
        </p:spPr>
      </p:pic>
      <p:sp>
        <p:nvSpPr>
          <p:cNvPr id="2206" name="TextBox 3"/>
          <p:cNvSpPr/>
          <p:nvPr/>
        </p:nvSpPr>
        <p:spPr>
          <a:xfrm>
            <a:off x="457200" y="252360"/>
            <a:ext cx="83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&amp;E Implementation Strategy (to da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tablish Core FtF Monitoring Obligation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ily with USAID Washington (e.g., agree required core indicators and reporting timel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M&amp;E Coordinato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PRI to recruit SI M&amp;E Coordinator (Senior International Research position, likely based in Addis) with junior staff support in addition to DC-based te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Implementation Alliance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Establish M&amp;E community (esp. evaluation methods and tools) to finalize project M&amp;E design, as well as guide, participate in and review M&amp;E work plans and deliverables (composition, e.g., M&amp;E specialist/liaison from involved CG centers, donor and national and regional part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Open-Access, Web-Based Platform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 host and make accessible SI M&amp;E plans, documents, and annual reports, as well as background publications, underlying datasets and, wherever possible, analytical tools. Promote and apply standards for farming system, technology and impact characteriz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ual M&amp;E Technical Meet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ly aligned with proposed Project-wide Annual meeting (Need for cross-site planning and review meetings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appropriate split of M&amp;E resources between M &amp; 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ope of donor’s minimum indicator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ject management versus strategic M&amp;E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s of implementation partners versus M&amp;E team in collecting/analysing indicator da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we need to re-examine the rationale for specific focus sites and sub-system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will join the M&amp;E Alliance/commun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y likely candidates for M&amp;E Coordinat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overall FtF core indicator guide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 and sub-system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.g. rice, maize, sorghum-based for 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SI syste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 the 3 “sites” (Sudano-Sahelian zone, Ethiopian Highlands, Eastern and Southern Afr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ckward &amp; forward assessmen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 ante evaluations (projections) of key M&amp;E indicators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-up and out assessments (evaluate spillover potential/ options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amine the potential productivity and sustainability consequences of a range of adoption and geographic/system spillover pathways beyond actual implementation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2685960" y="5719680"/>
          <a:ext cx="6181920" cy="768600"/>
        </p:xfrm>
        <a:graphic>
          <a:graphicData uri="http://schemas.openxmlformats.org/drawingml/2006/table">
            <a:tbl>
              <a:tblPr/>
              <a:tblGrid>
                <a:gridCol w="870120"/>
                <a:gridCol w="711000"/>
                <a:gridCol w="741600"/>
                <a:gridCol w="1101600"/>
                <a:gridCol w="1733400"/>
                <a:gridCol w="102420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H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Attribu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Urban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R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com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Ex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Consum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tt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roduction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puts, Tech Ado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3" name="Group 50"/>
          <p:cNvGrpSpPr/>
          <p:nvPr/>
        </p:nvGrpSpPr>
        <p:grpSpPr>
          <a:xfrm>
            <a:off x="611640" y="739800"/>
            <a:ext cx="8150040" cy="2430720"/>
            <a:chOff x="611640" y="739800"/>
            <a:chExt cx="8150040" cy="2430720"/>
          </a:xfrm>
        </p:grpSpPr>
        <p:grpSp>
          <p:nvGrpSpPr>
            <p:cNvPr id="1654" name="Group 51"/>
            <p:cNvGrpSpPr/>
            <p:nvPr/>
          </p:nvGrpSpPr>
          <p:grpSpPr>
            <a:xfrm>
              <a:off x="611640" y="739800"/>
              <a:ext cx="8150040" cy="2430720"/>
              <a:chOff x="611640" y="739800"/>
              <a:chExt cx="8150040" cy="2430720"/>
            </a:xfrm>
          </p:grpSpPr>
          <p:sp>
            <p:nvSpPr>
              <p:cNvPr id="1655" name="Text Box 52"/>
              <p:cNvSpPr/>
              <p:nvPr/>
            </p:nvSpPr>
            <p:spPr>
              <a:xfrm>
                <a:off x="611640" y="1623960"/>
                <a:ext cx="3434400" cy="10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Policy/Market Context &amp; Impa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ually geo-political/admin units (policie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stitutions) as the unifying concept and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object of analysi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Verdana"/>
                  </a:rPr>
                  <a:t>Commodity foc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6" name="Group 53"/>
              <p:cNvGrpSpPr/>
              <p:nvPr/>
            </p:nvGrpSpPr>
            <p:grpSpPr>
              <a:xfrm>
                <a:off x="4008600" y="739800"/>
                <a:ext cx="4753080" cy="2430720"/>
                <a:chOff x="4008600" y="739800"/>
                <a:chExt cx="4753080" cy="2430720"/>
              </a:xfrm>
            </p:grpSpPr>
            <p:grpSp>
              <p:nvGrpSpPr>
                <p:cNvPr id="1657" name="Group 54"/>
                <p:cNvGrpSpPr/>
                <p:nvPr/>
              </p:nvGrpSpPr>
              <p:grpSpPr>
                <a:xfrm>
                  <a:off x="4008600" y="739800"/>
                  <a:ext cx="2549880" cy="2430720"/>
                  <a:chOff x="4008600" y="739800"/>
                  <a:chExt cx="2549880" cy="2430720"/>
                </a:xfrm>
              </p:grpSpPr>
              <p:sp>
                <p:nvSpPr>
                  <p:cNvPr id="1658" name="Text Box 55"/>
                  <p:cNvSpPr/>
                  <p:nvPr/>
                </p:nvSpPr>
                <p:spPr>
                  <a:xfrm>
                    <a:off x="4332240" y="739800"/>
                    <a:ext cx="19044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Fix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Geographies of Analysi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659" name="Picture 5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008600" y="1108080"/>
                    <a:ext cx="25498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0" name="Text Box 57"/>
                  <p:cNvSpPr/>
                  <p:nvPr/>
                </p:nvSpPr>
                <p:spPr>
                  <a:xfrm>
                    <a:off x="4580640" y="2772000"/>
                    <a:ext cx="14259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e.g., IMPACT/WATER,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GTAP &amp; derivativ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1" name="Text Box 58"/>
                <p:cNvSpPr/>
                <p:nvPr/>
              </p:nvSpPr>
              <p:spPr>
                <a:xfrm>
                  <a:off x="6535080" y="739800"/>
                  <a:ext cx="1904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Flexibl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Geographies of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Text Box 59"/>
                <p:cNvSpPr/>
                <p:nvPr/>
              </p:nvSpPr>
              <p:spPr>
                <a:xfrm>
                  <a:off x="7029360" y="2771640"/>
                  <a:ext cx="9352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e.g., DREAM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MM model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3" name="Group 60"/>
                <p:cNvGrpSpPr/>
                <p:nvPr/>
              </p:nvGrpSpPr>
              <p:grpSpPr>
                <a:xfrm>
                  <a:off x="6211800" y="1108080"/>
                  <a:ext cx="2549880" cy="1754280"/>
                  <a:chOff x="6211800" y="1108080"/>
                  <a:chExt cx="2549880" cy="1754280"/>
                </a:xfrm>
              </p:grpSpPr>
              <p:sp>
                <p:nvSpPr>
                  <p:cNvPr id="1664" name="AutoShape 61"/>
                  <p:cNvSpPr/>
                  <p:nvPr/>
                </p:nvSpPr>
                <p:spPr>
                  <a:xfrm>
                    <a:off x="6211800" y="1108080"/>
                    <a:ext cx="2549880" cy="175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65" name="Group 62"/>
                  <p:cNvGrpSpPr/>
                  <p:nvPr/>
                </p:nvGrpSpPr>
                <p:grpSpPr>
                  <a:xfrm>
                    <a:off x="6683760" y="1266840"/>
                    <a:ext cx="1636200" cy="1400040"/>
                    <a:chOff x="6683760" y="1266840"/>
                    <a:chExt cx="1636200" cy="1400040"/>
                  </a:xfrm>
                </p:grpSpPr>
                <p:sp>
                  <p:nvSpPr>
                    <p:cNvPr id="1666" name="Freeform 63"/>
                    <p:cNvSpPr/>
                    <p:nvPr/>
                  </p:nvSpPr>
                  <p:spPr>
                    <a:xfrm>
                      <a:off x="6683760" y="1266840"/>
                      <a:ext cx="708120" cy="1101600"/>
                    </a:xfrm>
                    <a:custGeom>
                      <a:avLst/>
                      <a:gdLst>
                        <a:gd name="textAreaLeft" fmla="*/ 0 w 708120"/>
                        <a:gd name="textAreaRight" fmla="*/ 708480 w 708120"/>
                        <a:gd name="textAreaTop" fmla="*/ 0 h 1101600"/>
                        <a:gd name="textAreaBottom" fmla="*/ 1101960 h 1101600"/>
                      </a:gdLst>
                      <a:ahLst/>
                      <a:rect l="textAreaLeft" t="textAreaTop" r="textAreaRight" b="textAreaBottom"/>
                      <a:pathLst>
                        <a:path w="414" h="694">
                          <a:moveTo>
                            <a:pt x="414" y="175"/>
                          </a:moveTo>
                          <a:lnTo>
                            <a:pt x="345" y="214"/>
                          </a:lnTo>
                          <a:lnTo>
                            <a:pt x="351" y="313"/>
                          </a:lnTo>
                          <a:lnTo>
                            <a:pt x="351" y="322"/>
                          </a:lnTo>
                          <a:lnTo>
                            <a:pt x="344" y="335"/>
                          </a:lnTo>
                          <a:lnTo>
                            <a:pt x="340" y="340"/>
                          </a:lnTo>
                          <a:lnTo>
                            <a:pt x="334" y="335"/>
                          </a:lnTo>
                          <a:lnTo>
                            <a:pt x="328" y="335"/>
                          </a:lnTo>
                          <a:lnTo>
                            <a:pt x="322" y="340"/>
                          </a:lnTo>
                          <a:lnTo>
                            <a:pt x="320" y="355"/>
                          </a:lnTo>
                          <a:lnTo>
                            <a:pt x="317" y="368"/>
                          </a:lnTo>
                          <a:lnTo>
                            <a:pt x="311" y="387"/>
                          </a:lnTo>
                          <a:lnTo>
                            <a:pt x="310" y="392"/>
                          </a:lnTo>
                          <a:lnTo>
                            <a:pt x="305" y="407"/>
                          </a:lnTo>
                          <a:lnTo>
                            <a:pt x="301" y="416"/>
                          </a:lnTo>
                          <a:lnTo>
                            <a:pt x="289" y="423"/>
                          </a:lnTo>
                          <a:lnTo>
                            <a:pt x="283" y="435"/>
                          </a:lnTo>
                          <a:lnTo>
                            <a:pt x="280" y="455"/>
                          </a:lnTo>
                          <a:lnTo>
                            <a:pt x="278" y="473"/>
                          </a:lnTo>
                          <a:lnTo>
                            <a:pt x="284" y="500"/>
                          </a:lnTo>
                          <a:lnTo>
                            <a:pt x="286" y="516"/>
                          </a:lnTo>
                          <a:lnTo>
                            <a:pt x="278" y="538"/>
                          </a:lnTo>
                          <a:lnTo>
                            <a:pt x="268" y="555"/>
                          </a:lnTo>
                          <a:lnTo>
                            <a:pt x="253" y="570"/>
                          </a:lnTo>
                          <a:lnTo>
                            <a:pt x="242" y="582"/>
                          </a:lnTo>
                          <a:lnTo>
                            <a:pt x="238" y="609"/>
                          </a:lnTo>
                          <a:lnTo>
                            <a:pt x="236" y="630"/>
                          </a:lnTo>
                          <a:lnTo>
                            <a:pt x="239" y="646"/>
                          </a:lnTo>
                          <a:lnTo>
                            <a:pt x="242" y="661"/>
                          </a:lnTo>
                          <a:lnTo>
                            <a:pt x="244" y="673"/>
                          </a:lnTo>
                          <a:lnTo>
                            <a:pt x="244" y="679"/>
                          </a:lnTo>
                          <a:lnTo>
                            <a:pt x="233" y="688"/>
                          </a:lnTo>
                          <a:lnTo>
                            <a:pt x="224" y="694"/>
                          </a:lnTo>
                          <a:lnTo>
                            <a:pt x="221" y="684"/>
                          </a:lnTo>
                          <a:lnTo>
                            <a:pt x="214" y="673"/>
                          </a:lnTo>
                          <a:lnTo>
                            <a:pt x="204" y="667"/>
                          </a:lnTo>
                          <a:lnTo>
                            <a:pt x="195" y="663"/>
                          </a:lnTo>
                          <a:lnTo>
                            <a:pt x="187" y="667"/>
                          </a:lnTo>
                          <a:lnTo>
                            <a:pt x="174" y="669"/>
                          </a:lnTo>
                          <a:lnTo>
                            <a:pt x="168" y="664"/>
                          </a:lnTo>
                          <a:lnTo>
                            <a:pt x="163" y="651"/>
                          </a:lnTo>
                          <a:lnTo>
                            <a:pt x="162" y="640"/>
                          </a:lnTo>
                          <a:lnTo>
                            <a:pt x="153" y="633"/>
                          </a:lnTo>
                          <a:lnTo>
                            <a:pt x="145" y="624"/>
                          </a:lnTo>
                          <a:lnTo>
                            <a:pt x="138" y="613"/>
                          </a:lnTo>
                          <a:lnTo>
                            <a:pt x="129" y="607"/>
                          </a:lnTo>
                          <a:lnTo>
                            <a:pt x="118" y="604"/>
                          </a:lnTo>
                          <a:lnTo>
                            <a:pt x="106" y="594"/>
                          </a:lnTo>
                          <a:lnTo>
                            <a:pt x="95" y="592"/>
                          </a:lnTo>
                          <a:lnTo>
                            <a:pt x="81" y="594"/>
                          </a:lnTo>
                          <a:lnTo>
                            <a:pt x="69" y="594"/>
                          </a:lnTo>
                          <a:lnTo>
                            <a:pt x="56" y="595"/>
                          </a:lnTo>
                          <a:lnTo>
                            <a:pt x="41" y="591"/>
                          </a:lnTo>
                          <a:lnTo>
                            <a:pt x="30" y="585"/>
                          </a:lnTo>
                          <a:lnTo>
                            <a:pt x="15" y="577"/>
                          </a:lnTo>
                          <a:lnTo>
                            <a:pt x="8" y="574"/>
                          </a:lnTo>
                          <a:lnTo>
                            <a:pt x="0" y="570"/>
                          </a:lnTo>
                          <a:lnTo>
                            <a:pt x="5" y="562"/>
                          </a:lnTo>
                          <a:lnTo>
                            <a:pt x="63" y="488"/>
                          </a:lnTo>
                          <a:lnTo>
                            <a:pt x="62" y="370"/>
                          </a:lnTo>
                          <a:lnTo>
                            <a:pt x="75" y="353"/>
                          </a:lnTo>
                          <a:lnTo>
                            <a:pt x="120" y="346"/>
                          </a:lnTo>
                          <a:lnTo>
                            <a:pt x="139" y="233"/>
                          </a:lnTo>
                          <a:lnTo>
                            <a:pt x="148" y="227"/>
                          </a:lnTo>
                          <a:lnTo>
                            <a:pt x="144" y="112"/>
                          </a:lnTo>
                          <a:lnTo>
                            <a:pt x="114" y="70"/>
                          </a:lnTo>
                          <a:lnTo>
                            <a:pt x="142" y="36"/>
                          </a:lnTo>
                          <a:lnTo>
                            <a:pt x="147" y="0"/>
                          </a:lnTo>
                          <a:lnTo>
                            <a:pt x="184" y="38"/>
                          </a:lnTo>
                          <a:lnTo>
                            <a:pt x="210" y="61"/>
                          </a:lnTo>
                          <a:lnTo>
                            <a:pt x="224" y="78"/>
                          </a:lnTo>
                          <a:lnTo>
                            <a:pt x="245" y="88"/>
                          </a:lnTo>
                          <a:lnTo>
                            <a:pt x="265" y="100"/>
                          </a:lnTo>
                          <a:lnTo>
                            <a:pt x="275" y="112"/>
                          </a:lnTo>
                          <a:lnTo>
                            <a:pt x="316" y="163"/>
                          </a:lnTo>
                          <a:lnTo>
                            <a:pt x="363" y="160"/>
                          </a:lnTo>
                          <a:lnTo>
                            <a:pt x="414" y="175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7" name="Line 64"/>
                    <p:cNvSpPr/>
                    <p:nvPr/>
                  </p:nvSpPr>
                  <p:spPr>
                    <a:xfrm flipH="1">
                      <a:off x="7374240" y="15447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65"/>
                    <p:cNvSpPr/>
                    <p:nvPr/>
                  </p:nvSpPr>
                  <p:spPr>
                    <a:xfrm flipH="1">
                      <a:off x="7338240" y="15634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Line 66"/>
                    <p:cNvSpPr/>
                    <p:nvPr/>
                  </p:nvSpPr>
                  <p:spPr>
                    <a:xfrm flipH="1">
                      <a:off x="7302600" y="158256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Freeform 67"/>
                    <p:cNvSpPr/>
                    <p:nvPr/>
                  </p:nvSpPr>
                  <p:spPr>
                    <a:xfrm>
                      <a:off x="7273800" y="1601640"/>
                      <a:ext cx="10080" cy="1440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6" y="0"/>
                          </a:moveTo>
                          <a:lnTo>
                            <a:pt x="0" y="3"/>
                          </a:lnTo>
                          <a:lnTo>
                            <a:pt x="2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Line 68"/>
                    <p:cNvSpPr/>
                    <p:nvPr/>
                  </p:nvSpPr>
                  <p:spPr>
                    <a:xfrm>
                      <a:off x="7277040" y="163512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Line 69"/>
                    <p:cNvSpPr/>
                    <p:nvPr/>
                  </p:nvSpPr>
                  <p:spPr>
                    <a:xfrm>
                      <a:off x="7278840" y="167328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Line 70"/>
                    <p:cNvSpPr/>
                    <p:nvPr/>
                  </p:nvSpPr>
                  <p:spPr>
                    <a:xfrm>
                      <a:off x="7282440" y="17114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Freeform 71"/>
                    <p:cNvSpPr/>
                    <p:nvPr/>
                  </p:nvSpPr>
                  <p:spPr>
                    <a:xfrm>
                      <a:off x="7283880" y="174924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Freeform 72"/>
                    <p:cNvSpPr/>
                    <p:nvPr/>
                  </p:nvSpPr>
                  <p:spPr>
                    <a:xfrm>
                      <a:off x="7270200" y="178740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Freeform 73"/>
                    <p:cNvSpPr/>
                    <p:nvPr/>
                  </p:nvSpPr>
                  <p:spPr>
                    <a:xfrm>
                      <a:off x="7234200" y="179856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0"/>
                          </a:moveTo>
                          <a:lnTo>
                            <a:pt x="6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74"/>
                    <p:cNvSpPr/>
                    <p:nvPr/>
                  </p:nvSpPr>
                  <p:spPr>
                    <a:xfrm>
                      <a:off x="7229160" y="182556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75"/>
                    <p:cNvSpPr/>
                    <p:nvPr/>
                  </p:nvSpPr>
                  <p:spPr>
                    <a:xfrm flipH="1">
                      <a:off x="7215120" y="1861920"/>
                      <a:ext cx="82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Freeform 76"/>
                    <p:cNvSpPr/>
                    <p:nvPr/>
                  </p:nvSpPr>
                  <p:spPr>
                    <a:xfrm>
                      <a:off x="7203600" y="1898640"/>
                      <a:ext cx="6480" cy="1908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Freeform 77"/>
                    <p:cNvSpPr/>
                    <p:nvPr/>
                  </p:nvSpPr>
                  <p:spPr>
                    <a:xfrm>
                      <a:off x="7174440" y="1931760"/>
                      <a:ext cx="15120" cy="111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2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78"/>
                    <p:cNvSpPr/>
                    <p:nvPr/>
                  </p:nvSpPr>
                  <p:spPr>
                    <a:xfrm flipH="1">
                      <a:off x="7163640" y="19605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Line 79"/>
                    <p:cNvSpPr/>
                    <p:nvPr/>
                  </p:nvSpPr>
                  <p:spPr>
                    <a:xfrm flipH="1">
                      <a:off x="7158600" y="19987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Line 80"/>
                    <p:cNvSpPr/>
                    <p:nvPr/>
                  </p:nvSpPr>
                  <p:spPr>
                    <a:xfrm>
                      <a:off x="7164000" y="2036880"/>
                      <a:ext cx="540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81"/>
                    <p:cNvSpPr/>
                    <p:nvPr/>
                  </p:nvSpPr>
                  <p:spPr>
                    <a:xfrm>
                      <a:off x="7172640" y="2071800"/>
                      <a:ext cx="3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Freeform 82"/>
                    <p:cNvSpPr/>
                    <p:nvPr/>
                  </p:nvSpPr>
                  <p:spPr>
                    <a:xfrm>
                      <a:off x="7157520" y="210960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4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Freeform 83"/>
                    <p:cNvSpPr/>
                    <p:nvPr/>
                  </p:nvSpPr>
                  <p:spPr>
                    <a:xfrm>
                      <a:off x="7131960" y="214308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6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Freeform 84"/>
                    <p:cNvSpPr/>
                    <p:nvPr/>
                  </p:nvSpPr>
                  <p:spPr>
                    <a:xfrm>
                      <a:off x="7102800" y="217152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8" y="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Line 85"/>
                    <p:cNvSpPr/>
                    <p:nvPr/>
                  </p:nvSpPr>
                  <p:spPr>
                    <a:xfrm flipH="1">
                      <a:off x="7092000" y="22017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Line 86"/>
                    <p:cNvSpPr/>
                    <p:nvPr/>
                  </p:nvSpPr>
                  <p:spPr>
                    <a:xfrm flipH="1">
                      <a:off x="7086960" y="22399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0" name="Freeform 87"/>
                    <p:cNvSpPr/>
                    <p:nvPr/>
                  </p:nvSpPr>
                  <p:spPr>
                    <a:xfrm>
                      <a:off x="7090920" y="2278080"/>
                      <a:ext cx="1440" cy="172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1" h="11">
                          <a:moveTo>
                            <a:pt x="0" y="0"/>
                          </a:moveTo>
                          <a:lnTo>
                            <a:pt x="1" y="9"/>
                          </a:lnTo>
                          <a:lnTo>
                            <a:pt x="1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Freeform 88"/>
                    <p:cNvSpPr/>
                    <p:nvPr/>
                  </p:nvSpPr>
                  <p:spPr>
                    <a:xfrm>
                      <a:off x="7097400" y="23144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Freeform 89"/>
                    <p:cNvSpPr/>
                    <p:nvPr/>
                  </p:nvSpPr>
                  <p:spPr>
                    <a:xfrm>
                      <a:off x="7076880" y="2349360"/>
                      <a:ext cx="15480" cy="111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3" y="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Freeform 90"/>
                    <p:cNvSpPr/>
                    <p:nvPr/>
                  </p:nvSpPr>
                  <p:spPr>
                    <a:xfrm>
                      <a:off x="7054560" y="2343240"/>
                      <a:ext cx="10440" cy="1728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6" y="11"/>
                          </a:moveTo>
                          <a:lnTo>
                            <a:pt x="4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91"/>
                    <p:cNvSpPr/>
                    <p:nvPr/>
                  </p:nvSpPr>
                  <p:spPr>
                    <a:xfrm>
                      <a:off x="7023960" y="2320920"/>
                      <a:ext cx="18360" cy="93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92"/>
                    <p:cNvSpPr/>
                    <p:nvPr/>
                  </p:nvSpPr>
                  <p:spPr>
                    <a:xfrm>
                      <a:off x="6982920" y="23241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0"/>
                          </a:moveTo>
                          <a:lnTo>
                            <a:pt x="12" y="1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Freeform 93"/>
                    <p:cNvSpPr/>
                    <p:nvPr/>
                  </p:nvSpPr>
                  <p:spPr>
                    <a:xfrm>
                      <a:off x="6962400" y="2300400"/>
                      <a:ext cx="5040" cy="158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7" name="Freeform 94"/>
                    <p:cNvSpPr/>
                    <p:nvPr/>
                  </p:nvSpPr>
                  <p:spPr>
                    <a:xfrm>
                      <a:off x="6941880" y="2266920"/>
                      <a:ext cx="15480" cy="144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2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Freeform 95"/>
                    <p:cNvSpPr/>
                    <p:nvPr/>
                  </p:nvSpPr>
                  <p:spPr>
                    <a:xfrm>
                      <a:off x="6916320" y="2238480"/>
                      <a:ext cx="13320" cy="140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8" y="9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Freeform 96"/>
                    <p:cNvSpPr/>
                    <p:nvPr/>
                  </p:nvSpPr>
                  <p:spPr>
                    <a:xfrm>
                      <a:off x="6880320" y="222084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11" y="5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Line 97"/>
                    <p:cNvSpPr/>
                    <p:nvPr/>
                  </p:nvSpPr>
                  <p:spPr>
                    <a:xfrm flipH="1" flipV="1">
                      <a:off x="6846120" y="2206080"/>
                      <a:ext cx="18720" cy="32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98"/>
                    <p:cNvSpPr/>
                    <p:nvPr/>
                  </p:nvSpPr>
                  <p:spPr>
                    <a:xfrm>
                      <a:off x="6805080" y="220968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1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Freeform 99"/>
                    <p:cNvSpPr/>
                    <p:nvPr/>
                  </p:nvSpPr>
                  <p:spPr>
                    <a:xfrm>
                      <a:off x="6763680" y="2206440"/>
                      <a:ext cx="20520" cy="50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3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Freeform 100"/>
                    <p:cNvSpPr/>
                    <p:nvPr/>
                  </p:nvSpPr>
                  <p:spPr>
                    <a:xfrm>
                      <a:off x="6728040" y="2190600"/>
                      <a:ext cx="16920" cy="97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10" y="6"/>
                          </a:moveTo>
                          <a:lnTo>
                            <a:pt x="4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Freeform 101"/>
                    <p:cNvSpPr/>
                    <p:nvPr/>
                  </p:nvSpPr>
                  <p:spPr>
                    <a:xfrm>
                      <a:off x="6688800" y="2173320"/>
                      <a:ext cx="20520" cy="93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2" h="6">
                          <a:moveTo>
                            <a:pt x="12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102"/>
                    <p:cNvSpPr/>
                    <p:nvPr/>
                  </p:nvSpPr>
                  <p:spPr>
                    <a:xfrm>
                      <a:off x="6692040" y="2144520"/>
                      <a:ext cx="11880" cy="176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7" h="11">
                          <a:moveTo>
                            <a:pt x="0" y="11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Line 103"/>
                    <p:cNvSpPr/>
                    <p:nvPr/>
                  </p:nvSpPr>
                  <p:spPr>
                    <a:xfrm flipV="1">
                      <a:off x="6717600" y="2114640"/>
                      <a:ext cx="118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Line 104"/>
                    <p:cNvSpPr/>
                    <p:nvPr/>
                  </p:nvSpPr>
                  <p:spPr>
                    <a:xfrm flipV="1">
                      <a:off x="6743520" y="2085840"/>
                      <a:ext cx="115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105"/>
                    <p:cNvSpPr/>
                    <p:nvPr/>
                  </p:nvSpPr>
                  <p:spPr>
                    <a:xfrm flipV="1">
                      <a:off x="6765840" y="205560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106"/>
                    <p:cNvSpPr/>
                    <p:nvPr/>
                  </p:nvSpPr>
                  <p:spPr>
                    <a:xfrm flipV="1">
                      <a:off x="6791400" y="20188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Line 107"/>
                    <p:cNvSpPr/>
                    <p:nvPr/>
                  </p:nvSpPr>
                  <p:spPr>
                    <a:xfrm flipV="1">
                      <a:off x="6791400" y="19807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Line 108"/>
                    <p:cNvSpPr/>
                    <p:nvPr/>
                  </p:nvSpPr>
                  <p:spPr>
                    <a:xfrm flipV="1">
                      <a:off x="6789960" y="194256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Line 109"/>
                    <p:cNvSpPr/>
                    <p:nvPr/>
                  </p:nvSpPr>
                  <p:spPr>
                    <a:xfrm flipV="1">
                      <a:off x="6789960" y="1905120"/>
                      <a:ext cx="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3" name="Line 110"/>
                    <p:cNvSpPr/>
                    <p:nvPr/>
                  </p:nvSpPr>
                  <p:spPr>
                    <a:xfrm flipV="1">
                      <a:off x="6789960" y="18666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4" name="Line 111"/>
                    <p:cNvSpPr/>
                    <p:nvPr/>
                  </p:nvSpPr>
                  <p:spPr>
                    <a:xfrm flipV="1">
                      <a:off x="6791400" y="18349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112"/>
                    <p:cNvSpPr/>
                    <p:nvPr/>
                  </p:nvSpPr>
                  <p:spPr>
                    <a:xfrm flipV="1">
                      <a:off x="6822000" y="18219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Line 113"/>
                    <p:cNvSpPr/>
                    <p:nvPr/>
                  </p:nvSpPr>
                  <p:spPr>
                    <a:xfrm flipV="1">
                      <a:off x="6863040" y="18158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Line 114"/>
                    <p:cNvSpPr/>
                    <p:nvPr/>
                  </p:nvSpPr>
                  <p:spPr>
                    <a:xfrm flipV="1">
                      <a:off x="6890760" y="1782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Line 115"/>
                    <p:cNvSpPr/>
                    <p:nvPr/>
                  </p:nvSpPr>
                  <p:spPr>
                    <a:xfrm flipV="1">
                      <a:off x="6895800" y="17442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Line 116"/>
                    <p:cNvSpPr/>
                    <p:nvPr/>
                  </p:nvSpPr>
                  <p:spPr>
                    <a:xfrm flipV="1">
                      <a:off x="6904080" y="170604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0" name="Line 117"/>
                    <p:cNvSpPr/>
                    <p:nvPr/>
                  </p:nvSpPr>
                  <p:spPr>
                    <a:xfrm flipV="1">
                      <a:off x="6911280" y="1670040"/>
                      <a:ext cx="28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1" name="Freeform 118"/>
                    <p:cNvSpPr/>
                    <p:nvPr/>
                  </p:nvSpPr>
                  <p:spPr>
                    <a:xfrm>
                      <a:off x="6919920" y="163512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10"/>
                          </a:moveTo>
                          <a:lnTo>
                            <a:pt x="1" y="1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2" name="Line 119"/>
                    <p:cNvSpPr/>
                    <p:nvPr/>
                  </p:nvSpPr>
                  <p:spPr>
                    <a:xfrm flipV="1">
                      <a:off x="6936840" y="1601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3" name="Line 120"/>
                    <p:cNvSpPr/>
                    <p:nvPr/>
                  </p:nvSpPr>
                  <p:spPr>
                    <a:xfrm flipV="1">
                      <a:off x="6935040" y="15631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4" name="Line 121"/>
                    <p:cNvSpPr/>
                    <p:nvPr/>
                  </p:nvSpPr>
                  <p:spPr>
                    <a:xfrm flipV="1">
                      <a:off x="6935040" y="15253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5" name="Line 122"/>
                    <p:cNvSpPr/>
                    <p:nvPr/>
                  </p:nvSpPr>
                  <p:spPr>
                    <a:xfrm flipV="1">
                      <a:off x="6931800" y="1487520"/>
                      <a:ext cx="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6" name="Line 123"/>
                    <p:cNvSpPr/>
                    <p:nvPr/>
                  </p:nvSpPr>
                  <p:spPr>
                    <a:xfrm flipV="1">
                      <a:off x="6931800" y="1447560"/>
                      <a:ext cx="0" cy="205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7" name="Line 124"/>
                    <p:cNvSpPr/>
                    <p:nvPr/>
                  </p:nvSpPr>
                  <p:spPr>
                    <a:xfrm flipH="1" flipV="1">
                      <a:off x="6908760" y="1415520"/>
                      <a:ext cx="118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8" name="Line 125"/>
                    <p:cNvSpPr/>
                    <p:nvPr/>
                  </p:nvSpPr>
                  <p:spPr>
                    <a:xfrm flipH="1" flipV="1">
                      <a:off x="6885720" y="13860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9" name="Line 126"/>
                    <p:cNvSpPr/>
                    <p:nvPr/>
                  </p:nvSpPr>
                  <p:spPr>
                    <a:xfrm flipV="1">
                      <a:off x="6885720" y="1355760"/>
                      <a:ext cx="1332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0" name="Line 127"/>
                    <p:cNvSpPr/>
                    <p:nvPr/>
                  </p:nvSpPr>
                  <p:spPr>
                    <a:xfrm flipV="1">
                      <a:off x="6911280" y="132696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1" name="Line 128"/>
                    <p:cNvSpPr/>
                    <p:nvPr/>
                  </p:nvSpPr>
                  <p:spPr>
                    <a:xfrm flipV="1">
                      <a:off x="6930000" y="1289160"/>
                      <a:ext cx="180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2" name="Freeform 129"/>
                    <p:cNvSpPr/>
                    <p:nvPr/>
                  </p:nvSpPr>
                  <p:spPr>
                    <a:xfrm>
                      <a:off x="6931800" y="1266840"/>
                      <a:ext cx="15120" cy="126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3" name="Line 130"/>
                    <p:cNvSpPr/>
                    <p:nvPr/>
                  </p:nvSpPr>
                  <p:spPr>
                    <a:xfrm>
                      <a:off x="6960960" y="1293840"/>
                      <a:ext cx="1512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4" name="Freeform 131"/>
                    <p:cNvSpPr/>
                    <p:nvPr/>
                  </p:nvSpPr>
                  <p:spPr>
                    <a:xfrm>
                      <a:off x="6991560" y="1319040"/>
                      <a:ext cx="15480" cy="129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5" name="Line 132"/>
                    <p:cNvSpPr/>
                    <p:nvPr/>
                  </p:nvSpPr>
                  <p:spPr>
                    <a:xfrm>
                      <a:off x="7022160" y="13460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6" name="Line 133"/>
                    <p:cNvSpPr/>
                    <p:nvPr/>
                  </p:nvSpPr>
                  <p:spPr>
                    <a:xfrm>
                      <a:off x="7049520" y="13716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7" name="Line 134"/>
                    <p:cNvSpPr/>
                    <p:nvPr/>
                  </p:nvSpPr>
                  <p:spPr>
                    <a:xfrm>
                      <a:off x="7080480" y="13953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8" name="Line 135"/>
                    <p:cNvSpPr/>
                    <p:nvPr/>
                  </p:nvSpPr>
                  <p:spPr>
                    <a:xfrm>
                      <a:off x="7116480" y="141444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9" name="Freeform 136"/>
                    <p:cNvSpPr/>
                    <p:nvPr/>
                  </p:nvSpPr>
                  <p:spPr>
                    <a:xfrm>
                      <a:off x="7148880" y="1438200"/>
                      <a:ext cx="13320" cy="1440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0" y="0"/>
                          </a:moveTo>
                          <a:lnTo>
                            <a:pt x="3" y="4"/>
                          </a:lnTo>
                          <a:lnTo>
                            <a:pt x="8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0" name="Line 137"/>
                    <p:cNvSpPr/>
                    <p:nvPr/>
                  </p:nvSpPr>
                  <p:spPr>
                    <a:xfrm>
                      <a:off x="7174440" y="146844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1" name="Line 138"/>
                    <p:cNvSpPr/>
                    <p:nvPr/>
                  </p:nvSpPr>
                  <p:spPr>
                    <a:xfrm>
                      <a:off x="7200000" y="1496880"/>
                      <a:ext cx="1332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2" name="Line 139"/>
                    <p:cNvSpPr/>
                    <p:nvPr/>
                  </p:nvSpPr>
                  <p:spPr>
                    <a:xfrm>
                      <a:off x="7225560" y="1525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3" name="Line 140"/>
                    <p:cNvSpPr/>
                    <p:nvPr/>
                  </p:nvSpPr>
                  <p:spPr>
                    <a:xfrm>
                      <a:off x="7266960" y="15238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4" name="Line 141"/>
                    <p:cNvSpPr/>
                    <p:nvPr/>
                  </p:nvSpPr>
                  <p:spPr>
                    <a:xfrm>
                      <a:off x="7308000" y="1520640"/>
                      <a:ext cx="20520" cy="79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5" name="Line 142"/>
                    <p:cNvSpPr/>
                    <p:nvPr/>
                  </p:nvSpPr>
                  <p:spPr>
                    <a:xfrm>
                      <a:off x="7345440" y="15336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Line 143"/>
                    <p:cNvSpPr/>
                    <p:nvPr/>
                  </p:nvSpPr>
                  <p:spPr>
                    <a:xfrm>
                      <a:off x="7386840" y="1544760"/>
                      <a:ext cx="504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7" name="Freeform 144"/>
                    <p:cNvSpPr/>
                    <p:nvPr/>
                  </p:nvSpPr>
                  <p:spPr>
                    <a:xfrm>
                      <a:off x="7451280" y="1449360"/>
                      <a:ext cx="868680" cy="1217520"/>
                    </a:xfrm>
                    <a:custGeom>
                      <a:avLst/>
                      <a:gdLst>
                        <a:gd name="textAreaLeft" fmla="*/ 0 w 868680"/>
                        <a:gd name="textAreaRight" fmla="*/ 869040 w 868680"/>
                        <a:gd name="textAreaTop" fmla="*/ 0 h 1217520"/>
                        <a:gd name="textAreaBottom" fmla="*/ 1217880 h 1217520"/>
                      </a:gdLst>
                      <a:ahLst/>
                      <a:rect l="textAreaLeft" t="textAreaTop" r="textAreaRight" b="textAreaBottom"/>
                      <a:pathLst>
                        <a:path w="508" h="767">
                          <a:moveTo>
                            <a:pt x="260" y="33"/>
                          </a:moveTo>
                          <a:lnTo>
                            <a:pt x="261" y="41"/>
                          </a:lnTo>
                          <a:lnTo>
                            <a:pt x="264" y="51"/>
                          </a:lnTo>
                          <a:lnTo>
                            <a:pt x="267" y="66"/>
                          </a:lnTo>
                          <a:lnTo>
                            <a:pt x="269" y="77"/>
                          </a:lnTo>
                          <a:lnTo>
                            <a:pt x="270" y="81"/>
                          </a:lnTo>
                          <a:lnTo>
                            <a:pt x="273" y="95"/>
                          </a:lnTo>
                          <a:lnTo>
                            <a:pt x="279" y="108"/>
                          </a:lnTo>
                          <a:lnTo>
                            <a:pt x="291" y="117"/>
                          </a:lnTo>
                          <a:lnTo>
                            <a:pt x="297" y="123"/>
                          </a:lnTo>
                          <a:lnTo>
                            <a:pt x="301" y="132"/>
                          </a:lnTo>
                          <a:lnTo>
                            <a:pt x="306" y="138"/>
                          </a:lnTo>
                          <a:lnTo>
                            <a:pt x="309" y="141"/>
                          </a:lnTo>
                          <a:lnTo>
                            <a:pt x="319" y="148"/>
                          </a:lnTo>
                          <a:lnTo>
                            <a:pt x="330" y="157"/>
                          </a:lnTo>
                          <a:lnTo>
                            <a:pt x="325" y="280"/>
                          </a:lnTo>
                          <a:lnTo>
                            <a:pt x="333" y="284"/>
                          </a:lnTo>
                          <a:lnTo>
                            <a:pt x="340" y="289"/>
                          </a:lnTo>
                          <a:lnTo>
                            <a:pt x="343" y="293"/>
                          </a:lnTo>
                          <a:lnTo>
                            <a:pt x="348" y="304"/>
                          </a:lnTo>
                          <a:lnTo>
                            <a:pt x="349" y="310"/>
                          </a:lnTo>
                          <a:lnTo>
                            <a:pt x="357" y="308"/>
                          </a:lnTo>
                          <a:lnTo>
                            <a:pt x="366" y="310"/>
                          </a:lnTo>
                          <a:lnTo>
                            <a:pt x="376" y="308"/>
                          </a:lnTo>
                          <a:lnTo>
                            <a:pt x="388" y="307"/>
                          </a:lnTo>
                          <a:lnTo>
                            <a:pt x="395" y="311"/>
                          </a:lnTo>
                          <a:lnTo>
                            <a:pt x="400" y="319"/>
                          </a:lnTo>
                          <a:lnTo>
                            <a:pt x="407" y="328"/>
                          </a:lnTo>
                          <a:lnTo>
                            <a:pt x="416" y="329"/>
                          </a:lnTo>
                          <a:lnTo>
                            <a:pt x="427" y="326"/>
                          </a:lnTo>
                          <a:lnTo>
                            <a:pt x="434" y="322"/>
                          </a:lnTo>
                          <a:lnTo>
                            <a:pt x="442" y="319"/>
                          </a:lnTo>
                          <a:lnTo>
                            <a:pt x="451" y="320"/>
                          </a:lnTo>
                          <a:lnTo>
                            <a:pt x="455" y="325"/>
                          </a:lnTo>
                          <a:lnTo>
                            <a:pt x="458" y="329"/>
                          </a:lnTo>
                          <a:lnTo>
                            <a:pt x="460" y="340"/>
                          </a:lnTo>
                          <a:lnTo>
                            <a:pt x="461" y="352"/>
                          </a:lnTo>
                          <a:lnTo>
                            <a:pt x="454" y="361"/>
                          </a:lnTo>
                          <a:lnTo>
                            <a:pt x="443" y="368"/>
                          </a:lnTo>
                          <a:lnTo>
                            <a:pt x="437" y="377"/>
                          </a:lnTo>
                          <a:lnTo>
                            <a:pt x="437" y="386"/>
                          </a:lnTo>
                          <a:lnTo>
                            <a:pt x="436" y="403"/>
                          </a:lnTo>
                          <a:lnTo>
                            <a:pt x="436" y="410"/>
                          </a:lnTo>
                          <a:lnTo>
                            <a:pt x="439" y="416"/>
                          </a:lnTo>
                          <a:lnTo>
                            <a:pt x="443" y="429"/>
                          </a:lnTo>
                          <a:lnTo>
                            <a:pt x="449" y="438"/>
                          </a:lnTo>
                          <a:lnTo>
                            <a:pt x="458" y="441"/>
                          </a:lnTo>
                          <a:lnTo>
                            <a:pt x="467" y="438"/>
                          </a:lnTo>
                          <a:lnTo>
                            <a:pt x="476" y="443"/>
                          </a:lnTo>
                          <a:lnTo>
                            <a:pt x="487" y="444"/>
                          </a:lnTo>
                          <a:lnTo>
                            <a:pt x="499" y="446"/>
                          </a:lnTo>
                          <a:lnTo>
                            <a:pt x="505" y="446"/>
                          </a:lnTo>
                          <a:lnTo>
                            <a:pt x="508" y="447"/>
                          </a:lnTo>
                          <a:lnTo>
                            <a:pt x="508" y="452"/>
                          </a:lnTo>
                          <a:lnTo>
                            <a:pt x="505" y="458"/>
                          </a:lnTo>
                          <a:lnTo>
                            <a:pt x="502" y="467"/>
                          </a:lnTo>
                          <a:lnTo>
                            <a:pt x="494" y="476"/>
                          </a:lnTo>
                          <a:lnTo>
                            <a:pt x="491" y="485"/>
                          </a:lnTo>
                          <a:lnTo>
                            <a:pt x="485" y="497"/>
                          </a:lnTo>
                          <a:lnTo>
                            <a:pt x="473" y="497"/>
                          </a:lnTo>
                          <a:lnTo>
                            <a:pt x="460" y="498"/>
                          </a:lnTo>
                          <a:lnTo>
                            <a:pt x="449" y="512"/>
                          </a:lnTo>
                          <a:lnTo>
                            <a:pt x="449" y="527"/>
                          </a:lnTo>
                          <a:lnTo>
                            <a:pt x="449" y="539"/>
                          </a:lnTo>
                          <a:lnTo>
                            <a:pt x="451" y="545"/>
                          </a:lnTo>
                          <a:lnTo>
                            <a:pt x="454" y="564"/>
                          </a:lnTo>
                          <a:lnTo>
                            <a:pt x="454" y="588"/>
                          </a:lnTo>
                          <a:lnTo>
                            <a:pt x="454" y="613"/>
                          </a:lnTo>
                          <a:lnTo>
                            <a:pt x="455" y="637"/>
                          </a:lnTo>
                          <a:lnTo>
                            <a:pt x="452" y="645"/>
                          </a:lnTo>
                          <a:lnTo>
                            <a:pt x="440" y="654"/>
                          </a:lnTo>
                          <a:lnTo>
                            <a:pt x="421" y="649"/>
                          </a:lnTo>
                          <a:lnTo>
                            <a:pt x="388" y="649"/>
                          </a:lnTo>
                          <a:lnTo>
                            <a:pt x="369" y="645"/>
                          </a:lnTo>
                          <a:lnTo>
                            <a:pt x="364" y="642"/>
                          </a:lnTo>
                          <a:lnTo>
                            <a:pt x="339" y="630"/>
                          </a:lnTo>
                          <a:lnTo>
                            <a:pt x="316" y="621"/>
                          </a:lnTo>
                          <a:lnTo>
                            <a:pt x="289" y="633"/>
                          </a:lnTo>
                          <a:lnTo>
                            <a:pt x="285" y="636"/>
                          </a:lnTo>
                          <a:lnTo>
                            <a:pt x="270" y="657"/>
                          </a:lnTo>
                          <a:lnTo>
                            <a:pt x="267" y="682"/>
                          </a:lnTo>
                          <a:lnTo>
                            <a:pt x="267" y="690"/>
                          </a:lnTo>
                          <a:lnTo>
                            <a:pt x="273" y="715"/>
                          </a:lnTo>
                          <a:lnTo>
                            <a:pt x="279" y="739"/>
                          </a:lnTo>
                          <a:lnTo>
                            <a:pt x="271" y="752"/>
                          </a:lnTo>
                          <a:lnTo>
                            <a:pt x="267" y="767"/>
                          </a:lnTo>
                          <a:lnTo>
                            <a:pt x="254" y="758"/>
                          </a:lnTo>
                          <a:lnTo>
                            <a:pt x="243" y="751"/>
                          </a:lnTo>
                          <a:lnTo>
                            <a:pt x="231" y="752"/>
                          </a:lnTo>
                          <a:lnTo>
                            <a:pt x="212" y="757"/>
                          </a:lnTo>
                          <a:lnTo>
                            <a:pt x="200" y="748"/>
                          </a:lnTo>
                          <a:lnTo>
                            <a:pt x="195" y="752"/>
                          </a:lnTo>
                          <a:lnTo>
                            <a:pt x="188" y="754"/>
                          </a:lnTo>
                          <a:lnTo>
                            <a:pt x="177" y="751"/>
                          </a:lnTo>
                          <a:lnTo>
                            <a:pt x="162" y="746"/>
                          </a:lnTo>
                          <a:lnTo>
                            <a:pt x="146" y="739"/>
                          </a:lnTo>
                          <a:lnTo>
                            <a:pt x="134" y="737"/>
                          </a:lnTo>
                          <a:lnTo>
                            <a:pt x="130" y="737"/>
                          </a:lnTo>
                          <a:lnTo>
                            <a:pt x="109" y="743"/>
                          </a:lnTo>
                          <a:lnTo>
                            <a:pt x="89" y="739"/>
                          </a:lnTo>
                          <a:lnTo>
                            <a:pt x="79" y="739"/>
                          </a:lnTo>
                          <a:lnTo>
                            <a:pt x="61" y="743"/>
                          </a:lnTo>
                          <a:lnTo>
                            <a:pt x="46" y="742"/>
                          </a:lnTo>
                          <a:lnTo>
                            <a:pt x="25" y="742"/>
                          </a:lnTo>
                          <a:lnTo>
                            <a:pt x="1" y="737"/>
                          </a:lnTo>
                          <a:lnTo>
                            <a:pt x="0" y="730"/>
                          </a:lnTo>
                          <a:lnTo>
                            <a:pt x="3" y="724"/>
                          </a:lnTo>
                          <a:lnTo>
                            <a:pt x="94" y="618"/>
                          </a:lnTo>
                          <a:lnTo>
                            <a:pt x="94" y="536"/>
                          </a:lnTo>
                          <a:lnTo>
                            <a:pt x="71" y="518"/>
                          </a:lnTo>
                          <a:lnTo>
                            <a:pt x="44" y="497"/>
                          </a:lnTo>
                          <a:lnTo>
                            <a:pt x="40" y="479"/>
                          </a:lnTo>
                          <a:lnTo>
                            <a:pt x="40" y="461"/>
                          </a:lnTo>
                          <a:lnTo>
                            <a:pt x="44" y="438"/>
                          </a:lnTo>
                          <a:lnTo>
                            <a:pt x="62" y="413"/>
                          </a:lnTo>
                          <a:lnTo>
                            <a:pt x="82" y="386"/>
                          </a:lnTo>
                          <a:lnTo>
                            <a:pt x="79" y="364"/>
                          </a:lnTo>
                          <a:lnTo>
                            <a:pt x="88" y="350"/>
                          </a:lnTo>
                          <a:lnTo>
                            <a:pt x="103" y="332"/>
                          </a:lnTo>
                          <a:lnTo>
                            <a:pt x="116" y="316"/>
                          </a:lnTo>
                          <a:lnTo>
                            <a:pt x="121" y="301"/>
                          </a:lnTo>
                          <a:lnTo>
                            <a:pt x="128" y="284"/>
                          </a:lnTo>
                          <a:lnTo>
                            <a:pt x="125" y="271"/>
                          </a:lnTo>
                          <a:lnTo>
                            <a:pt x="136" y="253"/>
                          </a:lnTo>
                          <a:lnTo>
                            <a:pt x="159" y="231"/>
                          </a:lnTo>
                          <a:lnTo>
                            <a:pt x="124" y="205"/>
                          </a:lnTo>
                          <a:lnTo>
                            <a:pt x="104" y="207"/>
                          </a:lnTo>
                          <a:lnTo>
                            <a:pt x="89" y="184"/>
                          </a:lnTo>
                          <a:lnTo>
                            <a:pt x="122" y="115"/>
                          </a:lnTo>
                          <a:lnTo>
                            <a:pt x="109" y="81"/>
                          </a:lnTo>
                          <a:lnTo>
                            <a:pt x="103" y="60"/>
                          </a:lnTo>
                          <a:lnTo>
                            <a:pt x="106" y="59"/>
                          </a:lnTo>
                          <a:lnTo>
                            <a:pt x="119" y="56"/>
                          </a:lnTo>
                          <a:lnTo>
                            <a:pt x="121" y="51"/>
                          </a:lnTo>
                          <a:lnTo>
                            <a:pt x="127" y="3"/>
                          </a:lnTo>
                          <a:lnTo>
                            <a:pt x="133" y="2"/>
                          </a:lnTo>
                          <a:lnTo>
                            <a:pt x="146" y="0"/>
                          </a:lnTo>
                          <a:lnTo>
                            <a:pt x="159" y="5"/>
                          </a:lnTo>
                          <a:lnTo>
                            <a:pt x="165" y="8"/>
                          </a:lnTo>
                          <a:lnTo>
                            <a:pt x="180" y="15"/>
                          </a:lnTo>
                          <a:lnTo>
                            <a:pt x="194" y="23"/>
                          </a:lnTo>
                          <a:lnTo>
                            <a:pt x="210" y="23"/>
                          </a:lnTo>
                          <a:lnTo>
                            <a:pt x="224" y="21"/>
                          </a:lnTo>
                          <a:lnTo>
                            <a:pt x="233" y="26"/>
                          </a:lnTo>
                          <a:lnTo>
                            <a:pt x="237" y="29"/>
                          </a:lnTo>
                          <a:lnTo>
                            <a:pt x="246" y="35"/>
                          </a:lnTo>
                          <a:lnTo>
                            <a:pt x="254" y="33"/>
                          </a:lnTo>
                          <a:lnTo>
                            <a:pt x="260" y="33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8" name="Freeform 145"/>
                    <p:cNvSpPr/>
                    <p:nvPr/>
                  </p:nvSpPr>
                  <p:spPr>
                    <a:xfrm>
                      <a:off x="7896240" y="1501560"/>
                      <a:ext cx="5040" cy="176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3" h="11">
                          <a:moveTo>
                            <a:pt x="0" y="0"/>
                          </a:moveTo>
                          <a:lnTo>
                            <a:pt x="1" y="8"/>
                          </a:lnTo>
                          <a:lnTo>
                            <a:pt x="3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9" name="Freeform 146"/>
                    <p:cNvSpPr/>
                    <p:nvPr/>
                  </p:nvSpPr>
                  <p:spPr>
                    <a:xfrm>
                      <a:off x="7906320" y="1538280"/>
                      <a:ext cx="1800" cy="19080"/>
                    </a:xfrm>
                    <a:custGeom>
                      <a:avLst/>
                      <a:gdLst>
                        <a:gd name="textAreaLeft" fmla="*/ 0 w 1800"/>
                        <a:gd name="textAreaRight" fmla="*/ 2160 w 18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0" y="0"/>
                          </a:moveTo>
                          <a:lnTo>
                            <a:pt x="1" y="10"/>
                          </a:lnTo>
                          <a:lnTo>
                            <a:pt x="1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0" name="Freeform 147"/>
                    <p:cNvSpPr/>
                    <p:nvPr/>
                  </p:nvSpPr>
                  <p:spPr>
                    <a:xfrm>
                      <a:off x="7911360" y="157644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4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Freeform 148"/>
                    <p:cNvSpPr/>
                    <p:nvPr/>
                  </p:nvSpPr>
                  <p:spPr>
                    <a:xfrm>
                      <a:off x="7923240" y="1611360"/>
                      <a:ext cx="11880" cy="140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7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Freeform 149"/>
                    <p:cNvSpPr/>
                    <p:nvPr/>
                  </p:nvSpPr>
                  <p:spPr>
                    <a:xfrm>
                      <a:off x="7950960" y="1636560"/>
                      <a:ext cx="13320" cy="176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" h="11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8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Freeform 150"/>
                    <p:cNvSpPr/>
                    <p:nvPr/>
                  </p:nvSpPr>
                  <p:spPr>
                    <a:xfrm>
                      <a:off x="7975080" y="1670040"/>
                      <a:ext cx="16920" cy="936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0" y="0"/>
                          </a:moveTo>
                          <a:lnTo>
                            <a:pt x="3" y="2"/>
                          </a:lnTo>
                          <a:lnTo>
                            <a:pt x="1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4" name="Freeform 151"/>
                    <p:cNvSpPr/>
                    <p:nvPr/>
                  </p:nvSpPr>
                  <p:spPr>
                    <a:xfrm>
                      <a:off x="8007120" y="16923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0" y="0"/>
                          </a:moveTo>
                          <a:lnTo>
                            <a:pt x="5" y="4"/>
                          </a:lnTo>
                          <a:lnTo>
                            <a:pt x="5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5" name="Line 152"/>
                    <p:cNvSpPr/>
                    <p:nvPr/>
                  </p:nvSpPr>
                  <p:spPr>
                    <a:xfrm>
                      <a:off x="8015760" y="1727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6" name="Line 153"/>
                    <p:cNvSpPr/>
                    <p:nvPr/>
                  </p:nvSpPr>
                  <p:spPr>
                    <a:xfrm>
                      <a:off x="8012520" y="17650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Line 154"/>
                    <p:cNvSpPr/>
                    <p:nvPr/>
                  </p:nvSpPr>
                  <p:spPr>
                    <a:xfrm flipH="1">
                      <a:off x="8010360" y="180324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8" name="Line 155"/>
                    <p:cNvSpPr/>
                    <p:nvPr/>
                  </p:nvSpPr>
                  <p:spPr>
                    <a:xfrm>
                      <a:off x="8010720" y="18414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9" name="Freeform 156"/>
                    <p:cNvSpPr/>
                    <p:nvPr/>
                  </p:nvSpPr>
                  <p:spPr>
                    <a:xfrm>
                      <a:off x="8007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2" y="0"/>
                          </a:moveTo>
                          <a:lnTo>
                            <a:pt x="0" y="9"/>
                          </a:lnTo>
                          <a:lnTo>
                            <a:pt x="3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0" name="Freeform 157"/>
                    <p:cNvSpPr/>
                    <p:nvPr/>
                  </p:nvSpPr>
                  <p:spPr>
                    <a:xfrm>
                      <a:off x="8031240" y="1908000"/>
                      <a:ext cx="10440" cy="1440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4" y="4"/>
                          </a:lnTo>
                          <a:lnTo>
                            <a:pt x="6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1" name="Freeform 158"/>
                    <p:cNvSpPr/>
                    <p:nvPr/>
                  </p:nvSpPr>
                  <p:spPr>
                    <a:xfrm>
                      <a:off x="8048160" y="1938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8" y="0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2" name="Freeform 159"/>
                    <p:cNvSpPr/>
                    <p:nvPr/>
                  </p:nvSpPr>
                  <p:spPr>
                    <a:xfrm>
                      <a:off x="8089200" y="19382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0" y="0"/>
                          </a:moveTo>
                          <a:lnTo>
                            <a:pt x="3" y="0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3" name="Freeform 160"/>
                    <p:cNvSpPr/>
                    <p:nvPr/>
                  </p:nvSpPr>
                  <p:spPr>
                    <a:xfrm>
                      <a:off x="8130600" y="1942920"/>
                      <a:ext cx="10080" cy="176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0" y="0"/>
                          </a:moveTo>
                          <a:lnTo>
                            <a:pt x="3" y="8"/>
                          </a:lnTo>
                          <a:lnTo>
                            <a:pt x="6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4" name="Freeform 161"/>
                    <p:cNvSpPr/>
                    <p:nvPr/>
                  </p:nvSpPr>
                  <p:spPr>
                    <a:xfrm>
                      <a:off x="8156160" y="1969920"/>
                      <a:ext cx="20520" cy="180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5" name="Freeform 162"/>
                    <p:cNvSpPr/>
                    <p:nvPr/>
                  </p:nvSpPr>
                  <p:spPr>
                    <a:xfrm>
                      <a:off x="8193600" y="195588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8" y="0"/>
                          </a:lnTo>
                          <a:lnTo>
                            <a:pt x="12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6" name="Freeform 163"/>
                    <p:cNvSpPr/>
                    <p:nvPr/>
                  </p:nvSpPr>
                  <p:spPr>
                    <a:xfrm>
                      <a:off x="8232840" y="196524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1" y="4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7" name="Freeform 164"/>
                    <p:cNvSpPr/>
                    <p:nvPr/>
                  </p:nvSpPr>
                  <p:spPr>
                    <a:xfrm>
                      <a:off x="8232840" y="2000160"/>
                      <a:ext cx="6840" cy="1764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0"/>
                          </a:moveTo>
                          <a:lnTo>
                            <a:pt x="4" y="5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8" name="Freeform 165"/>
                    <p:cNvSpPr/>
                    <p:nvPr/>
                  </p:nvSpPr>
                  <p:spPr>
                    <a:xfrm>
                      <a:off x="8202240" y="202860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7" y="0"/>
                          </a:moveTo>
                          <a:lnTo>
                            <a:pt x="4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Freeform 166"/>
                    <p:cNvSpPr/>
                    <p:nvPr/>
                  </p:nvSpPr>
                  <p:spPr>
                    <a:xfrm>
                      <a:off x="8197200" y="206208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0" name="Freeform 167"/>
                    <p:cNvSpPr/>
                    <p:nvPr/>
                  </p:nvSpPr>
                  <p:spPr>
                    <a:xfrm>
                      <a:off x="8197200" y="210024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" y="6"/>
                          </a:lnTo>
                          <a:lnTo>
                            <a:pt x="4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1" name="Freeform 168"/>
                    <p:cNvSpPr/>
                    <p:nvPr/>
                  </p:nvSpPr>
                  <p:spPr>
                    <a:xfrm>
                      <a:off x="8212320" y="2135160"/>
                      <a:ext cx="15480" cy="126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Freeform 169"/>
                    <p:cNvSpPr/>
                    <p:nvPr/>
                  </p:nvSpPr>
                  <p:spPr>
                    <a:xfrm>
                      <a:off x="8244720" y="214452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2"/>
                          </a:moveTo>
                          <a:lnTo>
                            <a:pt x="3" y="0"/>
                          </a:lnTo>
                          <a:lnTo>
                            <a:pt x="12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Freeform 170"/>
                    <p:cNvSpPr/>
                    <p:nvPr/>
                  </p:nvSpPr>
                  <p:spPr>
                    <a:xfrm>
                      <a:off x="8286120" y="2154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11" y="2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4" name="Freeform 171"/>
                    <p:cNvSpPr/>
                    <p:nvPr/>
                  </p:nvSpPr>
                  <p:spPr>
                    <a:xfrm>
                      <a:off x="8311680" y="216360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5" y="0"/>
                          </a:moveTo>
                          <a:lnTo>
                            <a:pt x="5" y="2"/>
                          </a:lnTo>
                          <a:lnTo>
                            <a:pt x="2" y="8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Freeform 172"/>
                    <p:cNvSpPr/>
                    <p:nvPr/>
                  </p:nvSpPr>
                  <p:spPr>
                    <a:xfrm>
                      <a:off x="8294400" y="219708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5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6" name="Freeform 173"/>
                    <p:cNvSpPr/>
                    <p:nvPr/>
                  </p:nvSpPr>
                  <p:spPr>
                    <a:xfrm>
                      <a:off x="8265600" y="2233440"/>
                      <a:ext cx="18720" cy="50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7" name="Freeform 174"/>
                    <p:cNvSpPr/>
                    <p:nvPr/>
                  </p:nvSpPr>
                  <p:spPr>
                    <a:xfrm>
                      <a:off x="8229600" y="22399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0"/>
                          </a:moveTo>
                          <a:lnTo>
                            <a:pt x="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8" name="Line 175"/>
                    <p:cNvSpPr/>
                    <p:nvPr/>
                  </p:nvSpPr>
                  <p:spPr>
                    <a:xfrm>
                      <a:off x="8219160" y="22636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9" name="Freeform 176"/>
                    <p:cNvSpPr/>
                    <p:nvPr/>
                  </p:nvSpPr>
                  <p:spPr>
                    <a:xfrm>
                      <a:off x="8219160" y="2301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2" y="8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Freeform 177"/>
                    <p:cNvSpPr/>
                    <p:nvPr/>
                  </p:nvSpPr>
                  <p:spPr>
                    <a:xfrm>
                      <a:off x="8227800" y="2340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1" name="Freeform 178"/>
                    <p:cNvSpPr/>
                    <p:nvPr/>
                  </p:nvSpPr>
                  <p:spPr>
                    <a:xfrm>
                      <a:off x="8227800" y="23781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2" name="Freeform 179"/>
                    <p:cNvSpPr/>
                    <p:nvPr/>
                  </p:nvSpPr>
                  <p:spPr>
                    <a:xfrm>
                      <a:off x="8227800" y="24159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Freeform 180"/>
                    <p:cNvSpPr/>
                    <p:nvPr/>
                  </p:nvSpPr>
                  <p:spPr>
                    <a:xfrm>
                      <a:off x="8224200" y="245412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3" y="0"/>
                          </a:moveTo>
                          <a:lnTo>
                            <a:pt x="3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Freeform 181"/>
                    <p:cNvSpPr/>
                    <p:nvPr/>
                  </p:nvSpPr>
                  <p:spPr>
                    <a:xfrm>
                      <a:off x="8188560" y="2484360"/>
                      <a:ext cx="18360" cy="32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0"/>
                          </a:moveTo>
                          <a:lnTo>
                            <a:pt x="9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Line 182"/>
                    <p:cNvSpPr/>
                    <p:nvPr/>
                  </p:nvSpPr>
                  <p:spPr>
                    <a:xfrm flipH="1">
                      <a:off x="8147160" y="2479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Freeform 183"/>
                    <p:cNvSpPr/>
                    <p:nvPr/>
                  </p:nvSpPr>
                  <p:spPr>
                    <a:xfrm>
                      <a:off x="8107920" y="2477880"/>
                      <a:ext cx="18720" cy="180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1" h="1">
                          <a:moveTo>
                            <a:pt x="11" y="1"/>
                          </a:moveTo>
                          <a:lnTo>
                            <a:pt x="4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7" name="Freeform 184"/>
                    <p:cNvSpPr/>
                    <p:nvPr/>
                  </p:nvSpPr>
                  <p:spPr>
                    <a:xfrm>
                      <a:off x="8068680" y="2465280"/>
                      <a:ext cx="18720" cy="97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8" y="5"/>
                          </a:lnTo>
                          <a:lnTo>
                            <a:pt x="3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8" name="Line 185"/>
                    <p:cNvSpPr/>
                    <p:nvPr/>
                  </p:nvSpPr>
                  <p:spPr>
                    <a:xfrm flipH="1" flipV="1">
                      <a:off x="8030880" y="24490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Line 186"/>
                    <p:cNvSpPr/>
                    <p:nvPr/>
                  </p:nvSpPr>
                  <p:spPr>
                    <a:xfrm flipH="1" flipV="1">
                      <a:off x="7991640" y="2435040"/>
                      <a:ext cx="20520" cy="64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Line 187"/>
                    <p:cNvSpPr/>
                    <p:nvPr/>
                  </p:nvSpPr>
                  <p:spPr>
                    <a:xfrm flipH="1">
                      <a:off x="7956000" y="2440080"/>
                      <a:ext cx="187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Freeform 188"/>
                    <p:cNvSpPr/>
                    <p:nvPr/>
                  </p:nvSpPr>
                  <p:spPr>
                    <a:xfrm>
                      <a:off x="7928280" y="2459160"/>
                      <a:ext cx="10440" cy="1584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0"/>
                          </a:move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2" name="Freeform 189"/>
                    <p:cNvSpPr/>
                    <p:nvPr/>
                  </p:nvSpPr>
                  <p:spPr>
                    <a:xfrm>
                      <a:off x="7911360" y="24890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2" y="0"/>
                          </a:moveTo>
                          <a:lnTo>
                            <a:pt x="1" y="2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3" name="Freeform 190"/>
                    <p:cNvSpPr/>
                    <p:nvPr/>
                  </p:nvSpPr>
                  <p:spPr>
                    <a:xfrm>
                      <a:off x="7908120" y="2527200"/>
                      <a:ext cx="2880" cy="19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Line 191"/>
                    <p:cNvSpPr/>
                    <p:nvPr/>
                  </p:nvSpPr>
                  <p:spPr>
                    <a:xfrm>
                      <a:off x="7914960" y="2565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5" name="Line 192"/>
                    <p:cNvSpPr/>
                    <p:nvPr/>
                  </p:nvSpPr>
                  <p:spPr>
                    <a:xfrm>
                      <a:off x="7923240" y="2603520"/>
                      <a:ext cx="504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Freeform 193"/>
                    <p:cNvSpPr/>
                    <p:nvPr/>
                  </p:nvSpPr>
                  <p:spPr>
                    <a:xfrm>
                      <a:off x="7911360" y="2638440"/>
                      <a:ext cx="8280" cy="172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5" h="11">
                          <a:moveTo>
                            <a:pt x="5" y="0"/>
                          </a:moveTo>
                          <a:lnTo>
                            <a:pt x="2" y="3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Freeform 194"/>
                    <p:cNvSpPr/>
                    <p:nvPr/>
                  </p:nvSpPr>
                  <p:spPr>
                    <a:xfrm>
                      <a:off x="7882200" y="2651040"/>
                      <a:ext cx="18720" cy="1116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11" h="7">
                          <a:moveTo>
                            <a:pt x="11" y="7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8" name="Freeform 195"/>
                    <p:cNvSpPr/>
                    <p:nvPr/>
                  </p:nvSpPr>
                  <p:spPr>
                    <a:xfrm>
                      <a:off x="7844760" y="2641680"/>
                      <a:ext cx="20520" cy="14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440"/>
                        <a:gd name="textAreaBottom" fmla="*/ 1800 h 144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12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Freeform 196"/>
                    <p:cNvSpPr/>
                    <p:nvPr/>
                  </p:nvSpPr>
                  <p:spPr>
                    <a:xfrm>
                      <a:off x="7805520" y="264636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1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0" name="Freeform 197"/>
                    <p:cNvSpPr/>
                    <p:nvPr/>
                  </p:nvSpPr>
                  <p:spPr>
                    <a:xfrm>
                      <a:off x="7769520" y="264168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1"/>
                          </a:lnTo>
                          <a:lnTo>
                            <a:pt x="2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Line 198"/>
                    <p:cNvSpPr/>
                    <p:nvPr/>
                  </p:nvSpPr>
                  <p:spPr>
                    <a:xfrm flipH="1" flipV="1">
                      <a:off x="7731360" y="26334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2" name="Freeform 199"/>
                    <p:cNvSpPr/>
                    <p:nvPr/>
                  </p:nvSpPr>
                  <p:spPr>
                    <a:xfrm>
                      <a:off x="7694280" y="262260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3" name="Line 200"/>
                    <p:cNvSpPr/>
                    <p:nvPr/>
                  </p:nvSpPr>
                  <p:spPr>
                    <a:xfrm flipH="1">
                      <a:off x="7652880" y="26193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4" name="Line 201"/>
                    <p:cNvSpPr/>
                    <p:nvPr/>
                  </p:nvSpPr>
                  <p:spPr>
                    <a:xfrm flipH="1" flipV="1">
                      <a:off x="7611840" y="26222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Freeform 202"/>
                    <p:cNvSpPr/>
                    <p:nvPr/>
                  </p:nvSpPr>
                  <p:spPr>
                    <a:xfrm>
                      <a:off x="7572960" y="262260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8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6" name="Line 203"/>
                    <p:cNvSpPr/>
                    <p:nvPr/>
                  </p:nvSpPr>
                  <p:spPr>
                    <a:xfrm flipH="1" flipV="1">
                      <a:off x="7531200" y="2627280"/>
                      <a:ext cx="20520" cy="14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7" name="Freeform 204"/>
                    <p:cNvSpPr/>
                    <p:nvPr/>
                  </p:nvSpPr>
                  <p:spPr>
                    <a:xfrm>
                      <a:off x="7490880" y="2624040"/>
                      <a:ext cx="20160" cy="324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12" y="2"/>
                          </a:moveTo>
                          <a:lnTo>
                            <a:pt x="2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8" name="Freeform 205"/>
                    <p:cNvSpPr/>
                    <p:nvPr/>
                  </p:nvSpPr>
                  <p:spPr>
                    <a:xfrm>
                      <a:off x="7453440" y="2617560"/>
                      <a:ext cx="18360" cy="50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3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9" name="Freeform 206"/>
                    <p:cNvSpPr/>
                    <p:nvPr/>
                  </p:nvSpPr>
                  <p:spPr>
                    <a:xfrm>
                      <a:off x="7456320" y="25844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0" name="Line 207"/>
                    <p:cNvSpPr/>
                    <p:nvPr/>
                  </p:nvSpPr>
                  <p:spPr>
                    <a:xfrm flipV="1">
                      <a:off x="7482600" y="2555640"/>
                      <a:ext cx="115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1" name="Line 208"/>
                    <p:cNvSpPr/>
                    <p:nvPr/>
                  </p:nvSpPr>
                  <p:spPr>
                    <a:xfrm flipV="1">
                      <a:off x="7506000" y="25272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2" name="Line 209"/>
                    <p:cNvSpPr/>
                    <p:nvPr/>
                  </p:nvSpPr>
                  <p:spPr>
                    <a:xfrm flipV="1">
                      <a:off x="7535160" y="2498400"/>
                      <a:ext cx="118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Line 210"/>
                    <p:cNvSpPr/>
                    <p:nvPr/>
                  </p:nvSpPr>
                  <p:spPr>
                    <a:xfrm flipV="1">
                      <a:off x="7560720" y="24685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4" name="Line 211"/>
                    <p:cNvSpPr/>
                    <p:nvPr/>
                  </p:nvSpPr>
                  <p:spPr>
                    <a:xfrm flipV="1">
                      <a:off x="7588440" y="2439720"/>
                      <a:ext cx="133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5" name="Line 212"/>
                    <p:cNvSpPr/>
                    <p:nvPr/>
                  </p:nvSpPr>
                  <p:spPr>
                    <a:xfrm flipV="1">
                      <a:off x="7612200" y="24030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6" name="Line 213"/>
                    <p:cNvSpPr/>
                    <p:nvPr/>
                  </p:nvSpPr>
                  <p:spPr>
                    <a:xfrm flipV="1">
                      <a:off x="7612200" y="236484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7" name="Line 214"/>
                    <p:cNvSpPr/>
                    <p:nvPr/>
                  </p:nvSpPr>
                  <p:spPr>
                    <a:xfrm flipV="1">
                      <a:off x="7612200" y="23284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8" name="Freeform 215"/>
                    <p:cNvSpPr/>
                    <p:nvPr/>
                  </p:nvSpPr>
                  <p:spPr>
                    <a:xfrm>
                      <a:off x="7603920" y="2295360"/>
                      <a:ext cx="8280" cy="1440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5" h="9">
                          <a:moveTo>
                            <a:pt x="5" y="9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9" name="Line 216"/>
                    <p:cNvSpPr/>
                    <p:nvPr/>
                  </p:nvSpPr>
                  <p:spPr>
                    <a:xfrm flipH="1" flipV="1">
                      <a:off x="7572600" y="22712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0" name="Line 217"/>
                    <p:cNvSpPr/>
                    <p:nvPr/>
                  </p:nvSpPr>
                  <p:spPr>
                    <a:xfrm flipH="1" flipV="1">
                      <a:off x="7539840" y="224748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1" name="Line 218"/>
                    <p:cNvSpPr/>
                    <p:nvPr/>
                  </p:nvSpPr>
                  <p:spPr>
                    <a:xfrm flipH="1" flipV="1">
                      <a:off x="7520040" y="22158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2" name="Freeform 219"/>
                    <p:cNvSpPr/>
                    <p:nvPr/>
                  </p:nvSpPr>
                  <p:spPr>
                    <a:xfrm>
                      <a:off x="7520040" y="2178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1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Freeform 220"/>
                    <p:cNvSpPr/>
                    <p:nvPr/>
                  </p:nvSpPr>
                  <p:spPr>
                    <a:xfrm>
                      <a:off x="7525080" y="2139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12"/>
                          </a:moveTo>
                          <a:lnTo>
                            <a:pt x="1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4" name="Line 221"/>
                    <p:cNvSpPr/>
                    <p:nvPr/>
                  </p:nvSpPr>
                  <p:spPr>
                    <a:xfrm flipV="1">
                      <a:off x="7542000" y="21096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5" name="Line 222"/>
                    <p:cNvSpPr/>
                    <p:nvPr/>
                  </p:nvSpPr>
                  <p:spPr>
                    <a:xfrm flipV="1">
                      <a:off x="7566120" y="207972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Freeform 223"/>
                    <p:cNvSpPr/>
                    <p:nvPr/>
                  </p:nvSpPr>
                  <p:spPr>
                    <a:xfrm>
                      <a:off x="7588440" y="2046240"/>
                      <a:ext cx="3240" cy="158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2" h="10">
                          <a:moveTo>
                            <a:pt x="0" y="10"/>
                          </a:moveTo>
                          <a:lnTo>
                            <a:pt x="2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7" name="Line 224"/>
                    <p:cNvSpPr/>
                    <p:nvPr/>
                  </p:nvSpPr>
                  <p:spPr>
                    <a:xfrm flipV="1">
                      <a:off x="7586640" y="2009880"/>
                      <a:ext cx="1152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8" name="Line 225"/>
                    <p:cNvSpPr/>
                    <p:nvPr/>
                  </p:nvSpPr>
                  <p:spPr>
                    <a:xfrm flipV="1">
                      <a:off x="7612200" y="1981080"/>
                      <a:ext cx="118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Freeform 226"/>
                    <p:cNvSpPr/>
                    <p:nvPr/>
                  </p:nvSpPr>
                  <p:spPr>
                    <a:xfrm>
                      <a:off x="7638120" y="19508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0" name="Freeform 227"/>
                    <p:cNvSpPr/>
                    <p:nvPr/>
                  </p:nvSpPr>
                  <p:spPr>
                    <a:xfrm>
                      <a:off x="7655040" y="191448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0" y="12"/>
                          </a:moveTo>
                          <a:lnTo>
                            <a:pt x="2" y="8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1" name="Freeform 228"/>
                    <p:cNvSpPr/>
                    <p:nvPr/>
                  </p:nvSpPr>
                  <p:spPr>
                    <a:xfrm>
                      <a:off x="7665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2" name="Freeform 229"/>
                    <p:cNvSpPr/>
                    <p:nvPr/>
                  </p:nvSpPr>
                  <p:spPr>
                    <a:xfrm>
                      <a:off x="7675560" y="1846080"/>
                      <a:ext cx="13320" cy="158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8" h="10">
                          <a:moveTo>
                            <a:pt x="0" y="10"/>
                          </a:moveTo>
                          <a:lnTo>
                            <a:pt x="5" y="3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3" name="Line 230"/>
                    <p:cNvSpPr/>
                    <p:nvPr/>
                  </p:nvSpPr>
                  <p:spPr>
                    <a:xfrm flipV="1">
                      <a:off x="7701120" y="1820520"/>
                      <a:ext cx="154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Line 231"/>
                    <p:cNvSpPr/>
                    <p:nvPr/>
                  </p:nvSpPr>
                  <p:spPr>
                    <a:xfrm flipH="1" flipV="1">
                      <a:off x="7695720" y="179820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5" name="Line 232"/>
                    <p:cNvSpPr/>
                    <p:nvPr/>
                  </p:nvSpPr>
                  <p:spPr>
                    <a:xfrm flipH="1" flipV="1">
                      <a:off x="7663320" y="1774440"/>
                      <a:ext cx="16920" cy="126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6" name="Freeform 233"/>
                    <p:cNvSpPr/>
                    <p:nvPr/>
                  </p:nvSpPr>
                  <p:spPr>
                    <a:xfrm>
                      <a:off x="7627320" y="1770120"/>
                      <a:ext cx="15480" cy="792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" h="5">
                          <a:moveTo>
                            <a:pt x="9" y="5"/>
                          </a:moveTo>
                          <a:lnTo>
                            <a:pt x="1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Freeform 234"/>
                    <p:cNvSpPr/>
                    <p:nvPr/>
                  </p:nvSpPr>
                  <p:spPr>
                    <a:xfrm>
                      <a:off x="7603920" y="1739880"/>
                      <a:ext cx="10080" cy="158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10"/>
                          </a:moveTo>
                          <a:lnTo>
                            <a:pt x="0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8" name="Line 235"/>
                    <p:cNvSpPr/>
                    <p:nvPr/>
                  </p:nvSpPr>
                  <p:spPr>
                    <a:xfrm flipV="1">
                      <a:off x="7614000" y="1702800"/>
                      <a:ext cx="1044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9" name="Line 236"/>
                    <p:cNvSpPr/>
                    <p:nvPr/>
                  </p:nvSpPr>
                  <p:spPr>
                    <a:xfrm flipV="1">
                      <a:off x="7633080" y="1670040"/>
                      <a:ext cx="64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Line 237"/>
                    <p:cNvSpPr/>
                    <p:nvPr/>
                  </p:nvSpPr>
                  <p:spPr>
                    <a:xfrm flipV="1">
                      <a:off x="7650000" y="163512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1" name="Line 238"/>
                    <p:cNvSpPr/>
                    <p:nvPr/>
                  </p:nvSpPr>
                  <p:spPr>
                    <a:xfrm flipH="1" flipV="1">
                      <a:off x="7644240" y="160020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2" name="Freeform 239"/>
                    <p:cNvSpPr/>
                    <p:nvPr/>
                  </p:nvSpPr>
                  <p:spPr>
                    <a:xfrm>
                      <a:off x="7633080" y="1563480"/>
                      <a:ext cx="6480" cy="176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11"/>
                          </a:moveTo>
                          <a:lnTo>
                            <a:pt x="3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Freeform 240"/>
                    <p:cNvSpPr/>
                    <p:nvPr/>
                  </p:nvSpPr>
                  <p:spPr>
                    <a:xfrm>
                      <a:off x="7627320" y="1539720"/>
                      <a:ext cx="16920" cy="504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3" y="2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4" name="Line 241"/>
                    <p:cNvSpPr/>
                    <p:nvPr/>
                  </p:nvSpPr>
                  <p:spPr>
                    <a:xfrm flipV="1">
                      <a:off x="7658640" y="15098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5" name="Line 242"/>
                    <p:cNvSpPr/>
                    <p:nvPr/>
                  </p:nvSpPr>
                  <p:spPr>
                    <a:xfrm flipV="1">
                      <a:off x="7663680" y="1471320"/>
                      <a:ext cx="14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Freeform 243"/>
                    <p:cNvSpPr/>
                    <p:nvPr/>
                  </p:nvSpPr>
                  <p:spPr>
                    <a:xfrm>
                      <a:off x="7670520" y="14493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5" y="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Freeform 244"/>
                    <p:cNvSpPr/>
                    <p:nvPr/>
                  </p:nvSpPr>
                  <p:spPr>
                    <a:xfrm>
                      <a:off x="7711200" y="1452600"/>
                      <a:ext cx="17280" cy="6120"/>
                    </a:xfrm>
                    <a:custGeom>
                      <a:avLst/>
                      <a:gdLst>
                        <a:gd name="textAreaLeft" fmla="*/ 0 w 17280"/>
                        <a:gd name="textAreaRight" fmla="*/ 17640 w 1728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Freeform 245"/>
                    <p:cNvSpPr/>
                    <p:nvPr/>
                  </p:nvSpPr>
                  <p:spPr>
                    <a:xfrm>
                      <a:off x="7747200" y="146844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Line 246"/>
                    <p:cNvSpPr/>
                    <p:nvPr/>
                  </p:nvSpPr>
                  <p:spPr>
                    <a:xfrm>
                      <a:off x="7785000" y="148572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Freeform 247"/>
                    <p:cNvSpPr/>
                    <p:nvPr/>
                  </p:nvSpPr>
                  <p:spPr>
                    <a:xfrm>
                      <a:off x="7826040" y="148284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11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1" name="Freeform 248"/>
                    <p:cNvSpPr/>
                    <p:nvPr/>
                  </p:nvSpPr>
                  <p:spPr>
                    <a:xfrm>
                      <a:off x="7861680" y="149688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0" y="0"/>
                          </a:moveTo>
                          <a:lnTo>
                            <a:pt x="6" y="5"/>
                          </a:lnTo>
                          <a:lnTo>
                            <a:pt x="11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Freeform 249"/>
                    <p:cNvSpPr/>
                    <p:nvPr/>
                  </p:nvSpPr>
                  <p:spPr>
                    <a:xfrm>
                      <a:off x="7066800" y="1544760"/>
                      <a:ext cx="656280" cy="1054080"/>
                    </a:xfrm>
                    <a:custGeom>
                      <a:avLst/>
                      <a:gdLst>
                        <a:gd name="textAreaLeft" fmla="*/ 0 w 656280"/>
                        <a:gd name="textAreaRight" fmla="*/ 656640 w 656280"/>
                        <a:gd name="textAreaTop" fmla="*/ 0 h 1054080"/>
                        <a:gd name="textAreaBottom" fmla="*/ 1054080 h 1054080"/>
                      </a:gdLst>
                      <a:ahLst/>
                      <a:rect l="textAreaLeft" t="textAreaTop" r="textAreaRight" b="textAreaBottom"/>
                      <a:pathLst>
                        <a:path w="384" h="664">
                          <a:moveTo>
                            <a:pt x="228" y="664"/>
                          </a:moveTo>
                          <a:lnTo>
                            <a:pt x="226" y="649"/>
                          </a:lnTo>
                          <a:lnTo>
                            <a:pt x="219" y="643"/>
                          </a:lnTo>
                          <a:lnTo>
                            <a:pt x="207" y="634"/>
                          </a:lnTo>
                          <a:lnTo>
                            <a:pt x="199" y="627"/>
                          </a:lnTo>
                          <a:lnTo>
                            <a:pt x="192" y="618"/>
                          </a:lnTo>
                          <a:lnTo>
                            <a:pt x="180" y="612"/>
                          </a:lnTo>
                          <a:lnTo>
                            <a:pt x="169" y="609"/>
                          </a:lnTo>
                          <a:lnTo>
                            <a:pt x="174" y="604"/>
                          </a:lnTo>
                          <a:lnTo>
                            <a:pt x="162" y="604"/>
                          </a:lnTo>
                          <a:lnTo>
                            <a:pt x="148" y="603"/>
                          </a:lnTo>
                          <a:lnTo>
                            <a:pt x="138" y="601"/>
                          </a:lnTo>
                          <a:lnTo>
                            <a:pt x="124" y="607"/>
                          </a:lnTo>
                          <a:lnTo>
                            <a:pt x="114" y="603"/>
                          </a:lnTo>
                          <a:lnTo>
                            <a:pt x="110" y="592"/>
                          </a:lnTo>
                          <a:lnTo>
                            <a:pt x="105" y="583"/>
                          </a:lnTo>
                          <a:lnTo>
                            <a:pt x="96" y="580"/>
                          </a:lnTo>
                          <a:lnTo>
                            <a:pt x="83" y="577"/>
                          </a:lnTo>
                          <a:lnTo>
                            <a:pt x="74" y="573"/>
                          </a:lnTo>
                          <a:lnTo>
                            <a:pt x="66" y="565"/>
                          </a:lnTo>
                          <a:lnTo>
                            <a:pt x="53" y="561"/>
                          </a:lnTo>
                          <a:lnTo>
                            <a:pt x="41" y="553"/>
                          </a:lnTo>
                          <a:lnTo>
                            <a:pt x="27" y="553"/>
                          </a:lnTo>
                          <a:lnTo>
                            <a:pt x="15" y="547"/>
                          </a:lnTo>
                          <a:lnTo>
                            <a:pt x="6" y="537"/>
                          </a:lnTo>
                          <a:lnTo>
                            <a:pt x="0" y="528"/>
                          </a:lnTo>
                          <a:lnTo>
                            <a:pt x="0" y="519"/>
                          </a:lnTo>
                          <a:lnTo>
                            <a:pt x="9" y="513"/>
                          </a:lnTo>
                          <a:lnTo>
                            <a:pt x="20" y="504"/>
                          </a:lnTo>
                          <a:lnTo>
                            <a:pt x="20" y="498"/>
                          </a:lnTo>
                          <a:lnTo>
                            <a:pt x="18" y="486"/>
                          </a:lnTo>
                          <a:lnTo>
                            <a:pt x="15" y="471"/>
                          </a:lnTo>
                          <a:lnTo>
                            <a:pt x="12" y="455"/>
                          </a:lnTo>
                          <a:lnTo>
                            <a:pt x="14" y="434"/>
                          </a:lnTo>
                          <a:lnTo>
                            <a:pt x="18" y="407"/>
                          </a:lnTo>
                          <a:lnTo>
                            <a:pt x="29" y="395"/>
                          </a:lnTo>
                          <a:lnTo>
                            <a:pt x="44" y="380"/>
                          </a:lnTo>
                          <a:lnTo>
                            <a:pt x="54" y="363"/>
                          </a:lnTo>
                          <a:lnTo>
                            <a:pt x="62" y="341"/>
                          </a:lnTo>
                          <a:lnTo>
                            <a:pt x="60" y="325"/>
                          </a:lnTo>
                          <a:lnTo>
                            <a:pt x="54" y="298"/>
                          </a:lnTo>
                          <a:lnTo>
                            <a:pt x="56" y="280"/>
                          </a:lnTo>
                          <a:lnTo>
                            <a:pt x="59" y="260"/>
                          </a:lnTo>
                          <a:lnTo>
                            <a:pt x="65" y="248"/>
                          </a:lnTo>
                          <a:lnTo>
                            <a:pt x="77" y="241"/>
                          </a:lnTo>
                          <a:lnTo>
                            <a:pt x="81" y="232"/>
                          </a:lnTo>
                          <a:lnTo>
                            <a:pt x="86" y="217"/>
                          </a:lnTo>
                          <a:lnTo>
                            <a:pt x="87" y="212"/>
                          </a:lnTo>
                          <a:lnTo>
                            <a:pt x="93" y="193"/>
                          </a:lnTo>
                          <a:lnTo>
                            <a:pt x="96" y="180"/>
                          </a:lnTo>
                          <a:lnTo>
                            <a:pt x="98" y="165"/>
                          </a:lnTo>
                          <a:lnTo>
                            <a:pt x="104" y="160"/>
                          </a:lnTo>
                          <a:lnTo>
                            <a:pt x="110" y="160"/>
                          </a:lnTo>
                          <a:lnTo>
                            <a:pt x="116" y="165"/>
                          </a:lnTo>
                          <a:lnTo>
                            <a:pt x="120" y="160"/>
                          </a:lnTo>
                          <a:lnTo>
                            <a:pt x="127" y="147"/>
                          </a:lnTo>
                          <a:lnTo>
                            <a:pt x="127" y="138"/>
                          </a:lnTo>
                          <a:lnTo>
                            <a:pt x="121" y="39"/>
                          </a:lnTo>
                          <a:lnTo>
                            <a:pt x="190" y="0"/>
                          </a:lnTo>
                          <a:lnTo>
                            <a:pt x="196" y="3"/>
                          </a:lnTo>
                          <a:lnTo>
                            <a:pt x="207" y="6"/>
                          </a:lnTo>
                          <a:lnTo>
                            <a:pt x="219" y="9"/>
                          </a:lnTo>
                          <a:lnTo>
                            <a:pt x="232" y="15"/>
                          </a:lnTo>
                          <a:lnTo>
                            <a:pt x="237" y="18"/>
                          </a:lnTo>
                          <a:lnTo>
                            <a:pt x="248" y="18"/>
                          </a:lnTo>
                          <a:lnTo>
                            <a:pt x="256" y="18"/>
                          </a:lnTo>
                          <a:lnTo>
                            <a:pt x="265" y="17"/>
                          </a:lnTo>
                          <a:lnTo>
                            <a:pt x="269" y="15"/>
                          </a:lnTo>
                          <a:lnTo>
                            <a:pt x="284" y="11"/>
                          </a:lnTo>
                          <a:lnTo>
                            <a:pt x="301" y="5"/>
                          </a:lnTo>
                          <a:lnTo>
                            <a:pt x="316" y="0"/>
                          </a:lnTo>
                          <a:lnTo>
                            <a:pt x="328" y="0"/>
                          </a:lnTo>
                          <a:lnTo>
                            <a:pt x="334" y="21"/>
                          </a:lnTo>
                          <a:lnTo>
                            <a:pt x="347" y="55"/>
                          </a:lnTo>
                          <a:lnTo>
                            <a:pt x="314" y="124"/>
                          </a:lnTo>
                          <a:lnTo>
                            <a:pt x="329" y="147"/>
                          </a:lnTo>
                          <a:lnTo>
                            <a:pt x="349" y="145"/>
                          </a:lnTo>
                          <a:lnTo>
                            <a:pt x="384" y="171"/>
                          </a:lnTo>
                          <a:lnTo>
                            <a:pt x="361" y="193"/>
                          </a:lnTo>
                          <a:lnTo>
                            <a:pt x="350" y="211"/>
                          </a:lnTo>
                          <a:lnTo>
                            <a:pt x="353" y="224"/>
                          </a:lnTo>
                          <a:lnTo>
                            <a:pt x="346" y="241"/>
                          </a:lnTo>
                          <a:lnTo>
                            <a:pt x="341" y="256"/>
                          </a:lnTo>
                          <a:lnTo>
                            <a:pt x="328" y="272"/>
                          </a:lnTo>
                          <a:lnTo>
                            <a:pt x="313" y="290"/>
                          </a:lnTo>
                          <a:lnTo>
                            <a:pt x="304" y="304"/>
                          </a:lnTo>
                          <a:lnTo>
                            <a:pt x="307" y="326"/>
                          </a:lnTo>
                          <a:lnTo>
                            <a:pt x="287" y="353"/>
                          </a:lnTo>
                          <a:lnTo>
                            <a:pt x="269" y="378"/>
                          </a:lnTo>
                          <a:lnTo>
                            <a:pt x="265" y="401"/>
                          </a:lnTo>
                          <a:lnTo>
                            <a:pt x="265" y="419"/>
                          </a:lnTo>
                          <a:lnTo>
                            <a:pt x="269" y="437"/>
                          </a:lnTo>
                          <a:lnTo>
                            <a:pt x="296" y="458"/>
                          </a:lnTo>
                          <a:lnTo>
                            <a:pt x="319" y="476"/>
                          </a:lnTo>
                          <a:lnTo>
                            <a:pt x="319" y="558"/>
                          </a:lnTo>
                          <a:lnTo>
                            <a:pt x="228" y="664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3" name="Line 250"/>
                    <p:cNvSpPr/>
                    <p:nvPr/>
                  </p:nvSpPr>
                  <p:spPr>
                    <a:xfrm flipH="1" flipV="1">
                      <a:off x="7453440" y="2579400"/>
                      <a:ext cx="288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4" name="Line 251"/>
                    <p:cNvSpPr/>
                    <p:nvPr/>
                  </p:nvSpPr>
                  <p:spPr>
                    <a:xfrm flipH="1" flipV="1">
                      <a:off x="7425360" y="25538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Freeform 252"/>
                    <p:cNvSpPr/>
                    <p:nvPr/>
                  </p:nvSpPr>
                  <p:spPr>
                    <a:xfrm>
                      <a:off x="7395120" y="252720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7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Freeform 253"/>
                    <p:cNvSpPr/>
                    <p:nvPr/>
                  </p:nvSpPr>
                  <p:spPr>
                    <a:xfrm>
                      <a:off x="7359120" y="2511360"/>
                      <a:ext cx="16920" cy="64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10" y="4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7" name="Freeform 254"/>
                    <p:cNvSpPr/>
                    <p:nvPr/>
                  </p:nvSpPr>
                  <p:spPr>
                    <a:xfrm>
                      <a:off x="7333560" y="25034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Freeform 255"/>
                    <p:cNvSpPr/>
                    <p:nvPr/>
                  </p:nvSpPr>
                  <p:spPr>
                    <a:xfrm>
                      <a:off x="7293960" y="2498760"/>
                      <a:ext cx="18720" cy="32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2"/>
                          </a:moveTo>
                          <a:lnTo>
                            <a:pt x="5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Freeform 256"/>
                    <p:cNvSpPr/>
                    <p:nvPr/>
                  </p:nvSpPr>
                  <p:spPr>
                    <a:xfrm>
                      <a:off x="7259760" y="2496960"/>
                      <a:ext cx="13680" cy="972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8" h="6">
                          <a:moveTo>
                            <a:pt x="8" y="6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0" name="Freeform 257"/>
                    <p:cNvSpPr/>
                    <p:nvPr/>
                  </p:nvSpPr>
                  <p:spPr>
                    <a:xfrm>
                      <a:off x="7236360" y="24685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6"/>
                          </a:moveTo>
                          <a:lnTo>
                            <a:pt x="6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Freeform 258"/>
                    <p:cNvSpPr/>
                    <p:nvPr/>
                  </p:nvSpPr>
                  <p:spPr>
                    <a:xfrm>
                      <a:off x="7198560" y="245592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5"/>
                          </a:moveTo>
                          <a:lnTo>
                            <a:pt x="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Freeform 259"/>
                    <p:cNvSpPr/>
                    <p:nvPr/>
                  </p:nvSpPr>
                  <p:spPr>
                    <a:xfrm>
                      <a:off x="7162560" y="243684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12" y="5"/>
                          </a:moveTo>
                          <a:lnTo>
                            <a:pt x="1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3" name="Freeform 260"/>
                    <p:cNvSpPr/>
                    <p:nvPr/>
                  </p:nvSpPr>
                  <p:spPr>
                    <a:xfrm>
                      <a:off x="7126560" y="242244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Freeform 261"/>
                    <p:cNvSpPr/>
                    <p:nvPr/>
                  </p:nvSpPr>
                  <p:spPr>
                    <a:xfrm>
                      <a:off x="7087320" y="2408040"/>
                      <a:ext cx="18360" cy="129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11" h="8">
                          <a:moveTo>
                            <a:pt x="11" y="8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Freeform 262"/>
                    <p:cNvSpPr/>
                    <p:nvPr/>
                  </p:nvSpPr>
                  <p:spPr>
                    <a:xfrm>
                      <a:off x="7066800" y="23781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10"/>
                          </a:move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66" name="Freeform 263"/>
                  <p:cNvSpPr/>
                  <p:nvPr/>
                </p:nvSpPr>
                <p:spPr>
                  <a:xfrm>
                    <a:off x="7075440" y="2352600"/>
                    <a:ext cx="15480" cy="1116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9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Line 264"/>
                  <p:cNvSpPr/>
                  <p:nvPr/>
                </p:nvSpPr>
                <p:spPr>
                  <a:xfrm flipH="1" flipV="1">
                    <a:off x="7097040" y="231588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Freeform 265"/>
                  <p:cNvSpPr/>
                  <p:nvPr/>
                </p:nvSpPr>
                <p:spPr>
                  <a:xfrm>
                    <a:off x="7090920" y="228132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12"/>
                        </a:moveTo>
                        <a:lnTo>
                          <a:pt x="1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Line 266"/>
                  <p:cNvSpPr/>
                  <p:nvPr/>
                </p:nvSpPr>
                <p:spPr>
                  <a:xfrm flipV="1">
                    <a:off x="7087320" y="224280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Line 267"/>
                  <p:cNvSpPr/>
                  <p:nvPr/>
                </p:nvSpPr>
                <p:spPr>
                  <a:xfrm flipV="1">
                    <a:off x="7092360" y="220464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Line 268"/>
                  <p:cNvSpPr/>
                  <p:nvPr/>
                </p:nvSpPr>
                <p:spPr>
                  <a:xfrm flipV="1">
                    <a:off x="7102800" y="217296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Freeform 269"/>
                  <p:cNvSpPr/>
                  <p:nvPr/>
                </p:nvSpPr>
                <p:spPr>
                  <a:xfrm>
                    <a:off x="7131960" y="2144520"/>
                    <a:ext cx="11520" cy="144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0" y="9"/>
                        </a:moveTo>
                        <a:lnTo>
                          <a:pt x="6" y="2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Freeform 270"/>
                  <p:cNvSpPr/>
                  <p:nvPr/>
                </p:nvSpPr>
                <p:spPr>
                  <a:xfrm>
                    <a:off x="7154280" y="21114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0" y="11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Freeform 271"/>
                  <p:cNvSpPr/>
                  <p:nvPr/>
                </p:nvSpPr>
                <p:spPr>
                  <a:xfrm>
                    <a:off x="7169760" y="2074680"/>
                    <a:ext cx="2880" cy="19080"/>
                  </a:xfrm>
                  <a:custGeom>
                    <a:avLst/>
                    <a:gdLst>
                      <a:gd name="textAreaLeft" fmla="*/ 0 w 2880"/>
                      <a:gd name="textAreaRight" fmla="*/ 3240 w 28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2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Line 272"/>
                  <p:cNvSpPr/>
                  <p:nvPr/>
                </p:nvSpPr>
                <p:spPr>
                  <a:xfrm flipH="1" flipV="1">
                    <a:off x="7164000" y="2038320"/>
                    <a:ext cx="5400" cy="172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Freeform 273"/>
                  <p:cNvSpPr/>
                  <p:nvPr/>
                </p:nvSpPr>
                <p:spPr>
                  <a:xfrm>
                    <a:off x="7159320" y="200016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0" y="11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Line 274"/>
                  <p:cNvSpPr/>
                  <p:nvPr/>
                </p:nvSpPr>
                <p:spPr>
                  <a:xfrm flipV="1">
                    <a:off x="7162560" y="196164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Freeform 275"/>
                  <p:cNvSpPr/>
                  <p:nvPr/>
                </p:nvSpPr>
                <p:spPr>
                  <a:xfrm>
                    <a:off x="7174800" y="193176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0" y="9"/>
                        </a:moveTo>
                        <a:lnTo>
                          <a:pt x="2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Freeform 276"/>
                  <p:cNvSpPr/>
                  <p:nvPr/>
                </p:nvSpPr>
                <p:spPr>
                  <a:xfrm>
                    <a:off x="7203600" y="190008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1" y="8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Freeform 277"/>
                  <p:cNvSpPr/>
                  <p:nvPr/>
                </p:nvSpPr>
                <p:spPr>
                  <a:xfrm>
                    <a:off x="7215840" y="1865160"/>
                    <a:ext cx="5040" cy="1584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3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Freeform 278"/>
                  <p:cNvSpPr/>
                  <p:nvPr/>
                </p:nvSpPr>
                <p:spPr>
                  <a:xfrm>
                    <a:off x="7225920" y="182700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3" y="2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Freeform 279"/>
                  <p:cNvSpPr/>
                  <p:nvPr/>
                </p:nvSpPr>
                <p:spPr>
                  <a:xfrm>
                    <a:off x="7234560" y="1798560"/>
                    <a:ext cx="15480" cy="972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9" h="6">
                        <a:moveTo>
                          <a:pt x="0" y="6"/>
                        </a:moveTo>
                        <a:lnTo>
                          <a:pt x="0" y="5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Freeform 280"/>
                  <p:cNvSpPr/>
                  <p:nvPr/>
                </p:nvSpPr>
                <p:spPr>
                  <a:xfrm>
                    <a:off x="7266960" y="1789200"/>
                    <a:ext cx="10080" cy="140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0" y="9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Freeform 281"/>
                  <p:cNvSpPr/>
                  <p:nvPr/>
                </p:nvSpPr>
                <p:spPr>
                  <a:xfrm>
                    <a:off x="7284240" y="1751040"/>
                    <a:ext cx="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2">
                        <a:moveTo>
                          <a:pt x="0" y="12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Line 282"/>
                  <p:cNvSpPr/>
                  <p:nvPr/>
                </p:nvSpPr>
                <p:spPr>
                  <a:xfrm flipH="1" flipV="1">
                    <a:off x="7282440" y="171252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Line 283"/>
                  <p:cNvSpPr/>
                  <p:nvPr/>
                </p:nvSpPr>
                <p:spPr>
                  <a:xfrm flipH="1" flipV="1">
                    <a:off x="7278840" y="167436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Line 284"/>
                  <p:cNvSpPr/>
                  <p:nvPr/>
                </p:nvSpPr>
                <p:spPr>
                  <a:xfrm flipH="1" flipV="1">
                    <a:off x="7276680" y="163620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Freeform 285"/>
                  <p:cNvSpPr/>
                  <p:nvPr/>
                </p:nvSpPr>
                <p:spPr>
                  <a:xfrm>
                    <a:off x="7274160" y="1604880"/>
                    <a:ext cx="8280" cy="1260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5" h="8">
                        <a:moveTo>
                          <a:pt x="2" y="8"/>
                        </a:moveTo>
                        <a:lnTo>
                          <a:pt x="0" y="1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Line 286"/>
                  <p:cNvSpPr/>
                  <p:nvPr/>
                </p:nvSpPr>
                <p:spPr>
                  <a:xfrm flipV="1">
                    <a:off x="7299720" y="158544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Line 287"/>
                  <p:cNvSpPr/>
                  <p:nvPr/>
                </p:nvSpPr>
                <p:spPr>
                  <a:xfrm flipV="1">
                    <a:off x="7335360" y="1566360"/>
                    <a:ext cx="1872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Line 288"/>
                  <p:cNvSpPr/>
                  <p:nvPr/>
                </p:nvSpPr>
                <p:spPr>
                  <a:xfrm flipV="1">
                    <a:off x="7371360" y="154728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Freeform 289"/>
                  <p:cNvSpPr/>
                  <p:nvPr/>
                </p:nvSpPr>
                <p:spPr>
                  <a:xfrm>
                    <a:off x="7410600" y="1552680"/>
                    <a:ext cx="16920" cy="468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0" h="3">
                        <a:moveTo>
                          <a:pt x="0" y="0"/>
                        </a:moveTo>
                        <a:lnTo>
                          <a:pt x="6" y="1"/>
                        </a:lnTo>
                        <a:lnTo>
                          <a:pt x="10" y="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Freeform 290"/>
                  <p:cNvSpPr/>
                  <p:nvPr/>
                </p:nvSpPr>
                <p:spPr>
                  <a:xfrm>
                    <a:off x="7448040" y="1562040"/>
                    <a:ext cx="18720" cy="936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1" h="6">
                        <a:moveTo>
                          <a:pt x="0" y="0"/>
                        </a:moveTo>
                        <a:lnTo>
                          <a:pt x="9" y="4"/>
                        </a:lnTo>
                        <a:lnTo>
                          <a:pt x="11" y="6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Freeform 291"/>
                  <p:cNvSpPr/>
                  <p:nvPr/>
                </p:nvSpPr>
                <p:spPr>
                  <a:xfrm>
                    <a:off x="7487640" y="1573200"/>
                    <a:ext cx="18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Freeform 292"/>
                  <p:cNvSpPr/>
                  <p:nvPr/>
                </p:nvSpPr>
                <p:spPr>
                  <a:xfrm>
                    <a:off x="7526880" y="1563480"/>
                    <a:ext cx="18720" cy="792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Freeform 293"/>
                  <p:cNvSpPr/>
                  <p:nvPr/>
                </p:nvSpPr>
                <p:spPr>
                  <a:xfrm>
                    <a:off x="7566480" y="1552680"/>
                    <a:ext cx="20520" cy="46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2" h="3">
                        <a:moveTo>
                          <a:pt x="0" y="3"/>
                        </a:moveTo>
                        <a:lnTo>
                          <a:pt x="9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294"/>
                  <p:cNvSpPr/>
                  <p:nvPr/>
                </p:nvSpPr>
                <p:spPr>
                  <a:xfrm>
                    <a:off x="7603920" y="1544760"/>
                    <a:ext cx="20520" cy="28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880"/>
                      <a:gd name="textAreaBottom" fmla="*/ 3240 h 2880"/>
                    </a:gdLst>
                    <a:ahLst/>
                    <a:rect l="textAreaLeft" t="textAreaTop" r="textAreaRight" b="textAreaBottom"/>
                    <a:pathLst>
                      <a:path w="12" h="2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295"/>
                  <p:cNvSpPr/>
                  <p:nvPr/>
                </p:nvSpPr>
                <p:spPr>
                  <a:xfrm>
                    <a:off x="7633080" y="1562040"/>
                    <a:ext cx="6480" cy="1908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0" y="0"/>
                        </a:moveTo>
                        <a:lnTo>
                          <a:pt x="3" y="10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Line 296"/>
                  <p:cNvSpPr/>
                  <p:nvPr/>
                </p:nvSpPr>
                <p:spPr>
                  <a:xfrm>
                    <a:off x="7644960" y="159696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Line 297"/>
                  <p:cNvSpPr/>
                  <p:nvPr/>
                </p:nvSpPr>
                <p:spPr>
                  <a:xfrm flipH="1">
                    <a:off x="7650000" y="163188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Line 298"/>
                  <p:cNvSpPr/>
                  <p:nvPr/>
                </p:nvSpPr>
                <p:spPr>
                  <a:xfrm flipH="1">
                    <a:off x="7633080" y="1668240"/>
                    <a:ext cx="10080" cy="162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Line 299"/>
                  <p:cNvSpPr/>
                  <p:nvPr/>
                </p:nvSpPr>
                <p:spPr>
                  <a:xfrm flipH="1">
                    <a:off x="7617240" y="1703160"/>
                    <a:ext cx="6840" cy="176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Freeform 300"/>
                  <p:cNvSpPr/>
                  <p:nvPr/>
                </p:nvSpPr>
                <p:spPr>
                  <a:xfrm>
                    <a:off x="7603920" y="1736640"/>
                    <a:ext cx="10080" cy="176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6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Freeform 301"/>
                  <p:cNvSpPr/>
                  <p:nvPr/>
                </p:nvSpPr>
                <p:spPr>
                  <a:xfrm>
                    <a:off x="7624440" y="1770120"/>
                    <a:ext cx="18360" cy="792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0"/>
                        </a:moveTo>
                        <a:lnTo>
                          <a:pt x="3" y="5"/>
                        </a:lnTo>
                        <a:lnTo>
                          <a:pt x="11" y="5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Freeform 302"/>
                  <p:cNvSpPr/>
                  <p:nvPr/>
                </p:nvSpPr>
                <p:spPr>
                  <a:xfrm>
                    <a:off x="7663680" y="1774800"/>
                    <a:ext cx="15480" cy="1260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9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Line 303"/>
                  <p:cNvSpPr/>
                  <p:nvPr/>
                </p:nvSpPr>
                <p:spPr>
                  <a:xfrm>
                    <a:off x="7696440" y="1797120"/>
                    <a:ext cx="1692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Line 304"/>
                  <p:cNvSpPr/>
                  <p:nvPr/>
                </p:nvSpPr>
                <p:spPr>
                  <a:xfrm flipH="1">
                    <a:off x="7702560" y="1820880"/>
                    <a:ext cx="154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305"/>
                  <p:cNvSpPr/>
                  <p:nvPr/>
                </p:nvSpPr>
                <p:spPr>
                  <a:xfrm>
                    <a:off x="7675920" y="184608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8" y="0"/>
                        </a:moveTo>
                        <a:lnTo>
                          <a:pt x="5" y="3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Freeform 306"/>
                  <p:cNvSpPr/>
                  <p:nvPr/>
                </p:nvSpPr>
                <p:spPr>
                  <a:xfrm>
                    <a:off x="7665480" y="1876320"/>
                    <a:ext cx="5400" cy="190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Freeform 307"/>
                  <p:cNvSpPr/>
                  <p:nvPr/>
                </p:nvSpPr>
                <p:spPr>
                  <a:xfrm>
                    <a:off x="7655400" y="1914480"/>
                    <a:ext cx="8280" cy="1728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5" y="0"/>
                        </a:moveTo>
                        <a:lnTo>
                          <a:pt x="2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Freeform 308"/>
                  <p:cNvSpPr/>
                  <p:nvPr/>
                </p:nvSpPr>
                <p:spPr>
                  <a:xfrm>
                    <a:off x="7638120" y="1950840"/>
                    <a:ext cx="11880" cy="14400"/>
                  </a:xfrm>
                  <a:custGeom>
                    <a:avLst/>
                    <a:gdLst>
                      <a:gd name="textAreaLeft" fmla="*/ 0 w 11880"/>
                      <a:gd name="textAreaRight" fmla="*/ 12240 w 118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7" y="0"/>
                        </a:move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Line 309"/>
                  <p:cNvSpPr/>
                  <p:nvPr/>
                </p:nvSpPr>
                <p:spPr>
                  <a:xfrm flipH="1">
                    <a:off x="7612200" y="197964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Line 310"/>
                  <p:cNvSpPr/>
                  <p:nvPr/>
                </p:nvSpPr>
                <p:spPr>
                  <a:xfrm flipH="1">
                    <a:off x="7588440" y="2009880"/>
                    <a:ext cx="100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311"/>
                  <p:cNvSpPr/>
                  <p:nvPr/>
                </p:nvSpPr>
                <p:spPr>
                  <a:xfrm>
                    <a:off x="7588440" y="204300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Line 312"/>
                  <p:cNvSpPr/>
                  <p:nvPr/>
                </p:nvSpPr>
                <p:spPr>
                  <a:xfrm flipH="1">
                    <a:off x="7566480" y="2079720"/>
                    <a:ext cx="115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Line 313"/>
                  <p:cNvSpPr/>
                  <p:nvPr/>
                </p:nvSpPr>
                <p:spPr>
                  <a:xfrm flipH="1">
                    <a:off x="7542000" y="210960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Freeform 314"/>
                  <p:cNvSpPr/>
                  <p:nvPr/>
                </p:nvSpPr>
                <p:spPr>
                  <a:xfrm>
                    <a:off x="7525440" y="213984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0"/>
                        </a:moveTo>
                        <a:lnTo>
                          <a:pt x="1" y="3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Freeform 315"/>
                  <p:cNvSpPr/>
                  <p:nvPr/>
                </p:nvSpPr>
                <p:spPr>
                  <a:xfrm>
                    <a:off x="7520400" y="2176560"/>
                    <a:ext cx="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3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Line 316"/>
                  <p:cNvSpPr/>
                  <p:nvPr/>
                </p:nvSpPr>
                <p:spPr>
                  <a:xfrm>
                    <a:off x="7520400" y="221436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Line 317"/>
                  <p:cNvSpPr/>
                  <p:nvPr/>
                </p:nvSpPr>
                <p:spPr>
                  <a:xfrm>
                    <a:off x="7537320" y="2247840"/>
                    <a:ext cx="1836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Freeform 318"/>
                  <p:cNvSpPr/>
                  <p:nvPr/>
                </p:nvSpPr>
                <p:spPr>
                  <a:xfrm>
                    <a:off x="7571520" y="2268360"/>
                    <a:ext cx="16920" cy="1296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0" h="8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10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Freeform 319"/>
                  <p:cNvSpPr/>
                  <p:nvPr/>
                </p:nvSpPr>
                <p:spPr>
                  <a:xfrm>
                    <a:off x="7603920" y="2292120"/>
                    <a:ext cx="8280" cy="1764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5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Line 320"/>
                  <p:cNvSpPr/>
                  <p:nvPr/>
                </p:nvSpPr>
                <p:spPr>
                  <a:xfrm>
                    <a:off x="7612560" y="232884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Line 321"/>
                  <p:cNvSpPr/>
                  <p:nvPr/>
                </p:nvSpPr>
                <p:spPr>
                  <a:xfrm>
                    <a:off x="7612560" y="236520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Line 322"/>
                  <p:cNvSpPr/>
                  <p:nvPr/>
                </p:nvSpPr>
                <p:spPr>
                  <a:xfrm>
                    <a:off x="7612560" y="240336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Line 323"/>
                  <p:cNvSpPr/>
                  <p:nvPr/>
                </p:nvSpPr>
                <p:spPr>
                  <a:xfrm flipH="1">
                    <a:off x="7588080" y="244008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Line 324"/>
                  <p:cNvSpPr/>
                  <p:nvPr/>
                </p:nvSpPr>
                <p:spPr>
                  <a:xfrm flipH="1">
                    <a:off x="7562520" y="246852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Line 325"/>
                  <p:cNvSpPr/>
                  <p:nvPr/>
                </p:nvSpPr>
                <p:spPr>
                  <a:xfrm flipH="1">
                    <a:off x="7535160" y="249696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Line 326"/>
                  <p:cNvSpPr/>
                  <p:nvPr/>
                </p:nvSpPr>
                <p:spPr>
                  <a:xfrm flipH="1">
                    <a:off x="7509600" y="252576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Line 327"/>
                  <p:cNvSpPr/>
                  <p:nvPr/>
                </p:nvSpPr>
                <p:spPr>
                  <a:xfrm flipH="1">
                    <a:off x="7482600" y="2554200"/>
                    <a:ext cx="11520" cy="158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Line 328"/>
                  <p:cNvSpPr/>
                  <p:nvPr/>
                </p:nvSpPr>
                <p:spPr>
                  <a:xfrm flipH="1">
                    <a:off x="7456320" y="258444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32" name="Freeform 329"/>
            <p:cNvSpPr/>
            <p:nvPr/>
          </p:nvSpPr>
          <p:spPr>
            <a:xfrm>
              <a:off x="6870960" y="1654200"/>
              <a:ext cx="1370160" cy="80496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01" h="507">
                  <a:moveTo>
                    <a:pt x="0" y="102"/>
                  </a:moveTo>
                  <a:cubicBezTo>
                    <a:pt x="57" y="51"/>
                    <a:pt x="114" y="0"/>
                    <a:pt x="148" y="5"/>
                  </a:cubicBezTo>
                  <a:cubicBezTo>
                    <a:pt x="182" y="10"/>
                    <a:pt x="193" y="62"/>
                    <a:pt x="205" y="131"/>
                  </a:cubicBezTo>
                  <a:cubicBezTo>
                    <a:pt x="217" y="200"/>
                    <a:pt x="191" y="378"/>
                    <a:pt x="222" y="422"/>
                  </a:cubicBezTo>
                  <a:cubicBezTo>
                    <a:pt x="253" y="466"/>
                    <a:pt x="340" y="412"/>
                    <a:pt x="393" y="393"/>
                  </a:cubicBezTo>
                  <a:cubicBezTo>
                    <a:pt x="446" y="374"/>
                    <a:pt x="494" y="318"/>
                    <a:pt x="542" y="307"/>
                  </a:cubicBezTo>
                  <a:cubicBezTo>
                    <a:pt x="590" y="296"/>
                    <a:pt x="642" y="312"/>
                    <a:pt x="684" y="325"/>
                  </a:cubicBezTo>
                  <a:cubicBezTo>
                    <a:pt x="726" y="338"/>
                    <a:pt x="785" y="357"/>
                    <a:pt x="793" y="387"/>
                  </a:cubicBezTo>
                  <a:cubicBezTo>
                    <a:pt x="801" y="417"/>
                    <a:pt x="765" y="462"/>
                    <a:pt x="730" y="507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330"/>
            <p:cNvSpPr/>
            <p:nvPr/>
          </p:nvSpPr>
          <p:spPr>
            <a:xfrm>
              <a:off x="7293240" y="1581120"/>
              <a:ext cx="718200" cy="468360"/>
            </a:xfrm>
            <a:custGeom>
              <a:avLst/>
              <a:gdLst>
                <a:gd name="textAreaLeft" fmla="*/ 0 w 718200"/>
                <a:gd name="textAreaRight" fmla="*/ 718560 w 71820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20" h="295">
                  <a:moveTo>
                    <a:pt x="95" y="0"/>
                  </a:moveTo>
                  <a:cubicBezTo>
                    <a:pt x="93" y="22"/>
                    <a:pt x="92" y="44"/>
                    <a:pt x="78" y="85"/>
                  </a:cubicBezTo>
                  <a:cubicBezTo>
                    <a:pt x="64" y="126"/>
                    <a:pt x="0" y="217"/>
                    <a:pt x="10" y="245"/>
                  </a:cubicBezTo>
                  <a:cubicBezTo>
                    <a:pt x="20" y="273"/>
                    <a:pt x="96" y="245"/>
                    <a:pt x="141" y="251"/>
                  </a:cubicBezTo>
                  <a:cubicBezTo>
                    <a:pt x="186" y="257"/>
                    <a:pt x="249" y="295"/>
                    <a:pt x="283" y="279"/>
                  </a:cubicBezTo>
                  <a:cubicBezTo>
                    <a:pt x="317" y="263"/>
                    <a:pt x="323" y="180"/>
                    <a:pt x="346" y="154"/>
                  </a:cubicBezTo>
                  <a:cubicBezTo>
                    <a:pt x="369" y="128"/>
                    <a:pt x="408" y="126"/>
                    <a:pt x="420" y="120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4" name="TextBox 313"/>
          <p:cNvSpPr/>
          <p:nvPr/>
        </p:nvSpPr>
        <p:spPr>
          <a:xfrm>
            <a:off x="383040" y="1362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5" name="Group 340"/>
          <p:cNvGrpSpPr/>
          <p:nvPr/>
        </p:nvGrpSpPr>
        <p:grpSpPr>
          <a:xfrm>
            <a:off x="361440" y="5540400"/>
            <a:ext cx="8209440" cy="1212120"/>
            <a:chOff x="361440" y="5540400"/>
            <a:chExt cx="8209440" cy="1212120"/>
          </a:xfrm>
        </p:grpSpPr>
        <p:sp>
          <p:nvSpPr>
            <p:cNvPr id="1936" name="Text Box 30"/>
            <p:cNvSpPr/>
            <p:nvPr/>
          </p:nvSpPr>
          <p:spPr>
            <a:xfrm>
              <a:off x="361440" y="5810400"/>
              <a:ext cx="8209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ousehold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mmuni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haracter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ross-country data harmonization challenges.  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Livelihoods, Assets, Gender &amp; Access Fo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TextBox 314"/>
            <p:cNvSpPr/>
            <p:nvPr/>
          </p:nvSpPr>
          <p:spPr>
            <a:xfrm>
              <a:off x="375840" y="554040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I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Group 335"/>
          <p:cNvGrpSpPr/>
          <p:nvPr/>
        </p:nvGrpSpPr>
        <p:grpSpPr>
          <a:xfrm>
            <a:off x="380880" y="3319560"/>
            <a:ext cx="8276760" cy="2000160"/>
            <a:chOff x="380880" y="3319560"/>
            <a:chExt cx="8276760" cy="2000160"/>
          </a:xfrm>
        </p:grpSpPr>
        <p:sp>
          <p:nvSpPr>
            <p:cNvPr id="1939" name="Text Box 32"/>
            <p:cNvSpPr/>
            <p:nvPr/>
          </p:nvSpPr>
          <p:spPr>
            <a:xfrm>
              <a:off x="380880" y="3941640"/>
              <a:ext cx="457164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roduction/Market Context &amp; Imp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ridcells/pixels as uni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atural/Human landscape patterns as well as re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d product flows are unifying concepts and objec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Systems focus</a:t>
              </a:r>
              <a:r>
                <a:rPr b="1" lang="en-US" sz="1400" spc="-1" strike="noStrike">
                  <a:solidFill>
                    <a:srgbClr val="ff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TextBox 315"/>
            <p:cNvSpPr/>
            <p:nvPr/>
          </p:nvSpPr>
          <p:spPr>
            <a:xfrm>
              <a:off x="389160" y="36403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1" name="Group 332"/>
            <p:cNvGrpSpPr/>
            <p:nvPr/>
          </p:nvGrpSpPr>
          <p:grpSpPr>
            <a:xfrm>
              <a:off x="4157640" y="3319560"/>
              <a:ext cx="4500000" cy="2000160"/>
              <a:chOff x="4157640" y="3319560"/>
              <a:chExt cx="4500000" cy="2000160"/>
            </a:xfrm>
          </p:grpSpPr>
          <p:sp>
            <p:nvSpPr>
              <p:cNvPr id="1942" name="Line 34"/>
              <p:cNvSpPr/>
              <p:nvPr/>
            </p:nvSpPr>
            <p:spPr>
              <a:xfrm>
                <a:off x="5343120" y="4157640"/>
                <a:ext cx="1271880" cy="116208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35"/>
              <p:cNvSpPr/>
              <p:nvPr/>
            </p:nvSpPr>
            <p:spPr>
              <a:xfrm>
                <a:off x="4342680" y="4138560"/>
                <a:ext cx="1219320" cy="115200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36"/>
              <p:cNvSpPr/>
              <p:nvPr/>
            </p:nvSpPr>
            <p:spPr>
              <a:xfrm flipV="1">
                <a:off x="4699800" y="496656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37"/>
              <p:cNvSpPr/>
              <p:nvPr/>
            </p:nvSpPr>
            <p:spPr>
              <a:xfrm flipV="1">
                <a:off x="4157640" y="4344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Line 38"/>
              <p:cNvSpPr/>
              <p:nvPr/>
            </p:nvSpPr>
            <p:spPr>
              <a:xfrm>
                <a:off x="502020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39"/>
              <p:cNvSpPr/>
              <p:nvPr/>
            </p:nvSpPr>
            <p:spPr>
              <a:xfrm>
                <a:off x="554004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40"/>
              <p:cNvSpPr/>
              <p:nvPr/>
            </p:nvSpPr>
            <p:spPr>
              <a:xfrm>
                <a:off x="576756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AutoShape 43"/>
              <p:cNvSpPr/>
              <p:nvPr/>
            </p:nvSpPr>
            <p:spPr>
              <a:xfrm flipV="1" rot="10800000">
                <a:off x="5003640" y="461736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Text Box 45"/>
              <p:cNvSpPr/>
              <p:nvPr/>
            </p:nvSpPr>
            <p:spPr>
              <a:xfrm>
                <a:off x="5965920" y="4069800"/>
                <a:ext cx="168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Verdana"/>
                  </a:rPr>
                  <a:t>Production Syste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Text Box 46"/>
              <p:cNvSpPr/>
              <p:nvPr/>
            </p:nvSpPr>
            <p:spPr>
              <a:xfrm>
                <a:off x="6021720" y="4402440"/>
                <a:ext cx="208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b6bcf"/>
                    </a:solidFill>
                    <a:latin typeface="Verdana"/>
                  </a:rPr>
                  <a:t>Ecosystems &amp; ES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Text Box 47"/>
              <p:cNvSpPr/>
              <p:nvPr/>
            </p:nvSpPr>
            <p:spPr>
              <a:xfrm>
                <a:off x="5876280" y="3754800"/>
                <a:ext cx="278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ff"/>
                    </a:solidFill>
                    <a:latin typeface="Verdana"/>
                  </a:rPr>
                  <a:t>Infrastructure/Market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48"/>
              <p:cNvSpPr/>
              <p:nvPr/>
            </p:nvSpPr>
            <p:spPr>
              <a:xfrm flipV="1">
                <a:off x="4406400" y="4542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49"/>
              <p:cNvSpPr/>
              <p:nvPr/>
            </p:nvSpPr>
            <p:spPr>
              <a:xfrm>
                <a:off x="4838040" y="4148280"/>
                <a:ext cx="1239120" cy="115704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48"/>
              <p:cNvSpPr/>
              <p:nvPr/>
            </p:nvSpPr>
            <p:spPr>
              <a:xfrm flipV="1">
                <a:off x="4587480" y="474264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AutoShape 42"/>
              <p:cNvSpPr/>
              <p:nvPr/>
            </p:nvSpPr>
            <p:spPr>
              <a:xfrm flipV="1" rot="10800000">
                <a:off x="5017320" y="4286880"/>
                <a:ext cx="765000" cy="345960"/>
              </a:xfrm>
              <a:prstGeom prst="cube">
                <a:avLst>
                  <a:gd name="adj" fmla="val 64611"/>
                </a:avLst>
              </a:prstGeom>
              <a:solidFill>
                <a:srgbClr val="fac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AutoShape 41"/>
              <p:cNvSpPr/>
              <p:nvPr/>
            </p:nvSpPr>
            <p:spPr>
              <a:xfrm flipV="1" rot="10800000">
                <a:off x="5028120" y="3964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AutoShape 41"/>
              <p:cNvSpPr/>
              <p:nvPr/>
            </p:nvSpPr>
            <p:spPr>
              <a:xfrm flipV="1" rot="10800000">
                <a:off x="5018400" y="3640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Text Box 46"/>
              <p:cNvSpPr/>
              <p:nvPr/>
            </p:nvSpPr>
            <p:spPr>
              <a:xfrm>
                <a:off x="6015240" y="4745520"/>
                <a:ext cx="253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6f0d"/>
                    </a:solidFill>
                    <a:latin typeface="Verdana"/>
                  </a:rPr>
                  <a:t>Demographics/Human Welf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Line 44"/>
              <p:cNvSpPr/>
              <p:nvPr/>
            </p:nvSpPr>
            <p:spPr>
              <a:xfrm>
                <a:off x="524808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1" name="TextBox 322"/>
          <p:cNvSpPr/>
          <p:nvPr/>
        </p:nvSpPr>
        <p:spPr>
          <a:xfrm>
            <a:off x="193680" y="163440"/>
            <a:ext cx="87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ing Data &amp; Analysis Across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SA Farm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3" name="Content Placeholder 3" descr="fs.png"/>
          <p:cNvPicPr/>
          <p:nvPr/>
        </p:nvPicPr>
        <p:blipFill>
          <a:blip r:embed="rId1"/>
          <a:stretch/>
        </p:blipFill>
        <p:spPr>
          <a:xfrm>
            <a:off x="-23760" y="914400"/>
            <a:ext cx="5468760" cy="5791320"/>
          </a:xfrm>
          <a:prstGeom prst="rect">
            <a:avLst/>
          </a:prstGeom>
          <a:ln w="0">
            <a:noFill/>
          </a:ln>
        </p:spPr>
      </p:pic>
      <p:pic>
        <p:nvPicPr>
          <p:cNvPr id="1964" name="Content Placeholder 3" descr="fs.png"/>
          <p:cNvPicPr/>
          <p:nvPr/>
        </p:nvPicPr>
        <p:blipFill>
          <a:blip r:embed="rId2"/>
          <a:stretch/>
        </p:blipFill>
        <p:spPr>
          <a:xfrm>
            <a:off x="5459400" y="1708200"/>
            <a:ext cx="3106800" cy="4656240"/>
          </a:xfrm>
          <a:prstGeom prst="rect">
            <a:avLst/>
          </a:prstGeom>
          <a:ln w="0">
            <a:noFill/>
          </a:ln>
        </p:spPr>
      </p:pic>
      <p:sp>
        <p:nvSpPr>
          <p:cNvPr id="1965" name="Rectangle 2"/>
          <p:cNvSpPr/>
          <p:nvPr/>
        </p:nvSpPr>
        <p:spPr>
          <a:xfrm>
            <a:off x="241200" y="3505320"/>
            <a:ext cx="189252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Box 7"/>
          <p:cNvSpPr/>
          <p:nvPr/>
        </p:nvSpPr>
        <p:spPr>
          <a:xfrm>
            <a:off x="253080" y="630540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Dixon el al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8" name="Content Placeholder 3" descr="africa_poppng.png"/>
          <p:cNvPicPr/>
          <p:nvPr/>
        </p:nvPicPr>
        <p:blipFill>
          <a:blip r:embed="rId1"/>
          <a:stretch/>
        </p:blipFill>
        <p:spPr>
          <a:xfrm>
            <a:off x="162000" y="380880"/>
            <a:ext cx="4275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9" name="TextBox 8"/>
          <p:cNvSpPr/>
          <p:nvPr/>
        </p:nvSpPr>
        <p:spPr>
          <a:xfrm>
            <a:off x="142920" y="43322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Box 12"/>
          <p:cNvSpPr/>
          <p:nvPr/>
        </p:nvSpPr>
        <p:spPr>
          <a:xfrm>
            <a:off x="3450240" y="378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UMP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2" name="Group 16"/>
          <p:cNvGrpSpPr/>
          <p:nvPr/>
        </p:nvGrpSpPr>
        <p:grpSpPr>
          <a:xfrm>
            <a:off x="886680" y="1065240"/>
            <a:ext cx="4592520" cy="4591800"/>
            <a:chOff x="886680" y="1065240"/>
            <a:chExt cx="4592520" cy="4591800"/>
          </a:xfrm>
        </p:grpSpPr>
        <p:grpSp>
          <p:nvGrpSpPr>
            <p:cNvPr id="1973" name="Group 2"/>
            <p:cNvGrpSpPr/>
            <p:nvPr/>
          </p:nvGrpSpPr>
          <p:grpSpPr>
            <a:xfrm>
              <a:off x="936720" y="1067040"/>
              <a:ext cx="4526280" cy="4525560"/>
              <a:chOff x="936720" y="1067040"/>
              <a:chExt cx="4526280" cy="4525560"/>
            </a:xfrm>
          </p:grpSpPr>
          <p:pic>
            <p:nvPicPr>
              <p:cNvPr id="1974" name="Content Placeholder 5" descr="headcount $1.25 per day.png"/>
              <p:cNvPicPr/>
              <p:nvPr/>
            </p:nvPicPr>
            <p:blipFill>
              <a:blip r:embed="rId1"/>
              <a:stretch/>
            </p:blipFill>
            <p:spPr>
              <a:xfrm>
                <a:off x="936720" y="1067040"/>
                <a:ext cx="4526280" cy="4525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975" name="Picture 7" descr="legend headcount $1.25 per day.png"/>
              <p:cNvPicPr/>
              <p:nvPr/>
            </p:nvPicPr>
            <p:blipFill>
              <a:blip r:embed="rId2"/>
              <a:stretch/>
            </p:blipFill>
            <p:spPr>
              <a:xfrm>
                <a:off x="1319760" y="2880360"/>
                <a:ext cx="1346400" cy="254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6" name="TextBox 9"/>
            <p:cNvSpPr/>
            <p:nvPr/>
          </p:nvSpPr>
          <p:spPr>
            <a:xfrm>
              <a:off x="886680" y="52887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TextBox 13"/>
            <p:cNvSpPr/>
            <p:nvPr/>
          </p:nvSpPr>
          <p:spPr>
            <a:xfrm>
              <a:off x="4269600" y="106524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ood et al 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now replac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9" name="Group 17"/>
          <p:cNvGrpSpPr/>
          <p:nvPr/>
        </p:nvGrpSpPr>
        <p:grpSpPr>
          <a:xfrm>
            <a:off x="1988640" y="1636560"/>
            <a:ext cx="4336920" cy="4629960"/>
            <a:chOff x="1988640" y="1636560"/>
            <a:chExt cx="4336920" cy="4629960"/>
          </a:xfrm>
        </p:grpSpPr>
        <p:pic>
          <p:nvPicPr>
            <p:cNvPr id="1980" name="Content Placeholder 6" descr="Africa Cropland density.png"/>
            <p:cNvPicPr/>
            <p:nvPr/>
          </p:nvPicPr>
          <p:blipFill>
            <a:blip r:embed="rId1"/>
            <a:stretch/>
          </p:blipFill>
          <p:spPr>
            <a:xfrm>
              <a:off x="2031120" y="1675440"/>
              <a:ext cx="4275360" cy="452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81" name="TextBox 10"/>
            <p:cNvSpPr/>
            <p:nvPr/>
          </p:nvSpPr>
          <p:spPr>
            <a:xfrm>
              <a:off x="1988640" y="589824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TextBox 14"/>
            <p:cNvSpPr/>
            <p:nvPr/>
          </p:nvSpPr>
          <p:spPr>
            <a:xfrm>
              <a:off x="5094720" y="163656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amankutty et 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2008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4" name="Content Placeholder 3" descr="africa_mkt.png"/>
          <p:cNvPicPr/>
          <p:nvPr/>
        </p:nvPicPr>
        <p:blipFill>
          <a:blip r:embed="rId1"/>
          <a:stretch/>
        </p:blipFill>
        <p:spPr>
          <a:xfrm>
            <a:off x="3457440" y="2390760"/>
            <a:ext cx="4121280" cy="43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85" name="Group 18"/>
          <p:cNvGrpSpPr/>
          <p:nvPr/>
        </p:nvGrpSpPr>
        <p:grpSpPr>
          <a:xfrm>
            <a:off x="3414960" y="2384280"/>
            <a:ext cx="4158000" cy="4407480"/>
            <a:chOff x="3414960" y="2384280"/>
            <a:chExt cx="4158000" cy="4407480"/>
          </a:xfrm>
        </p:grpSpPr>
        <p:sp>
          <p:nvSpPr>
            <p:cNvPr id="1986" name="TextBox 11"/>
            <p:cNvSpPr/>
            <p:nvPr/>
          </p:nvSpPr>
          <p:spPr>
            <a:xfrm>
              <a:off x="3414960" y="642348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me to &gt;50K t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TextBox 15"/>
            <p:cNvSpPr/>
            <p:nvPr/>
          </p:nvSpPr>
          <p:spPr>
            <a:xfrm>
              <a:off x="6499080" y="2384280"/>
              <a:ext cx="107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arvestCh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uo 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1-11T15:03:52Z</dcterms:modified>
  <cp:revision>33</cp:revision>
  <dc:subject/>
  <dc:title>PowerPoint Presentation</dc:title>
</cp:coreProperties>
</file>